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2CE-600B-4036-9D55-5BD3D02D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1B9-49A7-4F86-A35A-9E176929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1AD-345A-4FE0-BAE8-87039D56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DC8-CF22-4E30-8DD0-419DD52D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16F-E9FB-497E-B532-A0FB864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961-7C27-4032-B6C4-7ADA0B4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4A0-F275-4CC2-A1B8-BFEFB3D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DCE-94BB-4D77-BEEA-05A3DA11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EE1-71BB-4406-BA3E-60CD37E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E1F-C7E8-45DB-AFA0-7866885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A28-E96F-4846-B582-0E290182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D3-35F8-42AF-8C10-65245C5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B453-EDA1-4FCA-90C9-8A629EF3B37C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47600" y="6516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Kreisda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4"/>
          <p:cNvSpPr/>
          <p:nvPr/>
        </p:nvSpPr>
        <p:spPr>
          <a:xfrm>
            <a:off x="6286680" y="47520"/>
            <a:ext cx="3558960" cy="70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ür Kreise gilt: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eder Kreis liegt in einer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Ebene </a:t>
            </a:r>
            <a:r>
              <a:rPr b="1" lang="de-AT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eder Kreis hat einen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Mittelpunkt M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und einen Radius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eder Kreis im Raum entsteht durch Drehung eines Punkte P um eine Achse a. Der Schnittpunkt der Trägerebene </a:t>
            </a:r>
            <a:r>
              <a:rPr b="0" lang="de-AT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mit der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Rotationsachse a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ist der Mittelpunkt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 einer Projektion erscheint ein Kreis im Normalfall als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Ellipse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 Die Rotationsachse a ist in jedem Riss deckungsgleich mit der Nebenachse der Ellipse. Wegen des „Satzes vom rechten Winkel“ erscheint die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Hauptachse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der Ellipse in jedem Riss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auf die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Rotationsachse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a. Diese Hauptachse liegt auf einer Hauptgeraden, daher erscheint der Abstand der Hauptscheitel zum Kreismittelpunkt unverkürzt und hat die Länge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 zugeordneten Normalrissen (z.B. Grundriss und Aufriss) gibt es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Hauptscheitel im Grundriss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und B</a:t>
            </a:r>
            <a:r>
              <a:rPr b="0" lang="de-AT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, die im Allgemeinen nichts mit den 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Hauptscheiteln im Aufriss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und B</a:t>
            </a:r>
            <a:r>
              <a:rPr b="0" lang="de-AT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zu tun haben. Sie können aber im zugeordneten Riss als allgemeine Punkte der Ellipse Verwendung fi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Abschließender Hinweis zur </a:t>
            </a: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Kreiskonstruktion</a:t>
            </a: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Ermittle im Raum die Normale auf die Trägerebene des Kreises durch den Kreismittelpunkt. Diese </a:t>
            </a: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Rotationsachse legt die Lage des Kreises im Wesentlichen fest</a:t>
            </a: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. Normale dazu (durch M) bilden die Hauptachsen und enthalten die Hauptscheitel (im Abstand r von 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0"/>
          <p:cNvSpPr txBox="1"/>
          <p:nvPr/>
        </p:nvSpPr>
        <p:spPr>
          <a:xfrm>
            <a:off x="2973240" y="6381720"/>
            <a:ext cx="46692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44" name="Group 45"/>
          <p:cNvGrpSpPr/>
          <p:nvPr/>
        </p:nvGrpSpPr>
        <p:grpSpPr>
          <a:xfrm>
            <a:off x="551520" y="1468080"/>
            <a:ext cx="4631760" cy="4013280"/>
            <a:chOff x="551520" y="1468080"/>
            <a:chExt cx="4631760" cy="4013280"/>
          </a:xfrm>
        </p:grpSpPr>
        <p:sp>
          <p:nvSpPr>
            <p:cNvPr id="45" name="Oval 41"/>
            <p:cNvSpPr/>
            <p:nvPr/>
          </p:nvSpPr>
          <p:spPr>
            <a:xfrm rot="19696800">
              <a:off x="700920" y="2472120"/>
              <a:ext cx="4332240" cy="180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42"/>
            <p:cNvSpPr/>
            <p:nvPr/>
          </p:nvSpPr>
          <p:spPr>
            <a:xfrm>
              <a:off x="1972440" y="1923480"/>
              <a:ext cx="402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44"/>
            <p:cNvSpPr/>
            <p:nvPr/>
          </p:nvSpPr>
          <p:spPr>
            <a:xfrm>
              <a:off x="2865240" y="3368160"/>
              <a:ext cx="1306080" cy="21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Gerader Verbinder 2"/>
          <p:cNvSpPr/>
          <p:nvPr/>
        </p:nvSpPr>
        <p:spPr>
          <a:xfrm flipV="1">
            <a:off x="2865600" y="2063880"/>
            <a:ext cx="792000" cy="130464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47600" y="6516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Kreise in besonderen 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772080" y="52560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n Haupteb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28840" y="836640"/>
            <a:ext cx="299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Stelle den Kreis mit Mittelpunkt M und Radius r, der in einer 1. Hauptebene liegt, in Grund- und Aufriss da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31800" y="659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92160" y="6521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653000" y="1379520"/>
            <a:ext cx="444240" cy="1657440"/>
            <a:chOff x="4653000" y="1379520"/>
            <a:chExt cx="444240" cy="1657440"/>
          </a:xfrm>
        </p:grpSpPr>
        <p:sp>
          <p:nvSpPr>
            <p:cNvPr id="55" name="Line 8"/>
            <p:cNvSpPr/>
            <p:nvPr/>
          </p:nvSpPr>
          <p:spPr>
            <a:xfrm>
              <a:off x="4725720" y="162864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4665600" y="1379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4653000" y="2760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1"/>
          <p:cNvSpPr/>
          <p:nvPr/>
        </p:nvSpPr>
        <p:spPr>
          <a:xfrm>
            <a:off x="3228840" y="474840"/>
            <a:ext cx="3084480" cy="37908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28520" y="544680"/>
            <a:ext cx="25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n projizierender Eb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0" y="831960"/>
            <a:ext cx="291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Stelle den Kreis mit Mittelpunkt M und Radius r, der in einer 1.-projizierenden Ebene (die den Punkt I enthält) liegt, in Grund- und Aufriss da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1413000" y="2692440"/>
            <a:ext cx="444240" cy="1657440"/>
            <a:chOff x="1413000" y="2692440"/>
            <a:chExt cx="444240" cy="1657440"/>
          </a:xfrm>
        </p:grpSpPr>
        <p:sp>
          <p:nvSpPr>
            <p:cNvPr id="62" name="Line 15"/>
            <p:cNvSpPr/>
            <p:nvPr/>
          </p:nvSpPr>
          <p:spPr>
            <a:xfrm>
              <a:off x="1485720" y="294156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1425600" y="26924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1413000" y="40734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0" y="469800"/>
            <a:ext cx="3084480" cy="52419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9"/>
          <p:cNvGrpSpPr/>
          <p:nvPr/>
        </p:nvGrpSpPr>
        <p:grpSpPr>
          <a:xfrm>
            <a:off x="2438280" y="5092560"/>
            <a:ext cx="431640" cy="276480"/>
            <a:chOff x="2438280" y="5092560"/>
            <a:chExt cx="431640" cy="276480"/>
          </a:xfrm>
        </p:grpSpPr>
        <p:sp>
          <p:nvSpPr>
            <p:cNvPr id="67" name="Line 20"/>
            <p:cNvSpPr/>
            <p:nvPr/>
          </p:nvSpPr>
          <p:spPr>
            <a:xfrm flipV="1">
              <a:off x="2549160" y="5277960"/>
              <a:ext cx="0" cy="9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438280" y="5092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2"/>
          <p:cNvSpPr/>
          <p:nvPr/>
        </p:nvSpPr>
        <p:spPr>
          <a:xfrm>
            <a:off x="6802560" y="298764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n Pulteb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673680" y="3274920"/>
            <a:ext cx="293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Stelle den Kreis mit Mittelpunkt M und Radius r, der in einer Pultebene liegt (die den Punkt I enthält), in Grund- und Aufriss da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4"/>
          <p:cNvGrpSpPr/>
          <p:nvPr/>
        </p:nvGrpSpPr>
        <p:grpSpPr>
          <a:xfrm>
            <a:off x="7954920" y="4452840"/>
            <a:ext cx="444240" cy="1545480"/>
            <a:chOff x="7954920" y="4452840"/>
            <a:chExt cx="444240" cy="1545480"/>
          </a:xfrm>
        </p:grpSpPr>
        <p:sp>
          <p:nvSpPr>
            <p:cNvPr id="72" name="Line 25"/>
            <p:cNvSpPr/>
            <p:nvPr/>
          </p:nvSpPr>
          <p:spPr>
            <a:xfrm>
              <a:off x="8027640" y="4681440"/>
              <a:ext cx="0" cy="1257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"/>
            <p:cNvSpPr/>
            <p:nvPr/>
          </p:nvSpPr>
          <p:spPr>
            <a:xfrm>
              <a:off x="7967520" y="4452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7954920" y="572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Freeform 28"/>
          <p:cNvSpPr/>
          <p:nvPr/>
        </p:nvSpPr>
        <p:spPr>
          <a:xfrm>
            <a:off x="4327560" y="2901960"/>
            <a:ext cx="5438880" cy="3852720"/>
          </a:xfrm>
          <a:custGeom>
            <a:avLst/>
            <a:gdLst/>
            <a:ahLst/>
            <a:rect l="l" t="t" r="r" b="b"/>
            <a:pathLst>
              <a:path w="3426" h="2427">
                <a:moveTo>
                  <a:pt x="1475" y="937"/>
                </a:moveTo>
                <a:lnTo>
                  <a:pt x="0" y="937"/>
                </a:lnTo>
                <a:lnTo>
                  <a:pt x="0" y="2427"/>
                </a:lnTo>
                <a:lnTo>
                  <a:pt x="3426" y="2427"/>
                </a:lnTo>
                <a:lnTo>
                  <a:pt x="3426" y="0"/>
                </a:lnTo>
                <a:lnTo>
                  <a:pt x="1475" y="0"/>
                </a:lnTo>
                <a:lnTo>
                  <a:pt x="1475" y="93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346800" y="47520"/>
            <a:ext cx="3498840" cy="32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auptebene: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Ebene, die zu einer Bildebene parallel ist. Die Bildebenen selbst sind auch Hauptebenen. Figuren in Hauptebenen erscheinen in einem Riss </a:t>
            </a:r>
            <a:br>
              <a:rPr sz="1000"/>
            </a:b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und im anderen R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jizierende Ebene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Ebene, die in einem Riss projizierend (als Gerade) erscheint. Hauptgeraden solcher Ebenen sind in einem Riss</a:t>
            </a:r>
            <a:br>
              <a:rPr sz="1000"/>
            </a:b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und im anderen Ri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ultebene: 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Ebene, die im „Kreuzriss“ projizierend (als Gerade) erscheint. 1. Hauptgeraden solcher Ebenen sind gleichzeitig 2. Hauptgeraden und sind daher in beiden Riss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Der Kreuzriss ist ein spezieller 3. Riss. Die Bildebene steht dabei </a:t>
            </a: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normal auf beide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Bildebenen </a:t>
            </a:r>
            <a:r>
              <a:rPr b="0" lang="de-AT" sz="1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AT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1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AT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0"/>
          <p:cNvGrpSpPr/>
          <p:nvPr/>
        </p:nvGrpSpPr>
        <p:grpSpPr>
          <a:xfrm>
            <a:off x="9123480" y="3900600"/>
            <a:ext cx="431640" cy="2743200"/>
            <a:chOff x="9123480" y="3900600"/>
            <a:chExt cx="431640" cy="2743200"/>
          </a:xfrm>
        </p:grpSpPr>
        <p:sp>
          <p:nvSpPr>
            <p:cNvPr id="78" name="Line 31"/>
            <p:cNvSpPr/>
            <p:nvPr/>
          </p:nvSpPr>
          <p:spPr>
            <a:xfrm>
              <a:off x="9221760" y="4137120"/>
              <a:ext cx="0" cy="248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2"/>
            <p:cNvSpPr/>
            <p:nvPr/>
          </p:nvSpPr>
          <p:spPr>
            <a:xfrm>
              <a:off x="9123480" y="3900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3"/>
            <p:cNvSpPr/>
            <p:nvPr/>
          </p:nvSpPr>
          <p:spPr>
            <a:xfrm>
              <a:off x="9123480" y="6367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WordArt 34"/>
          <p:cNvSpPr txBox="1"/>
          <p:nvPr/>
        </p:nvSpPr>
        <p:spPr>
          <a:xfrm>
            <a:off x="2973240" y="6381720"/>
            <a:ext cx="46692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7:13:12Z</dcterms:created>
  <dc:creator>konf2</dc:creator>
  <dc:description/>
  <dc:language>en-US</dc:language>
  <cp:lastModifiedBy>Microsoft-Konto</cp:lastModifiedBy>
  <cp:lastPrinted>2017-08-31T06:44:01Z</cp:lastPrinted>
  <dcterms:modified xsi:type="dcterms:W3CDTF">2017-08-31T06:44:36Z</dcterms:modified>
  <cp:revision>5</cp:revision>
  <dc:subject/>
  <dc:title>Folie 1</dc:title>
</cp:coreProperties>
</file>