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752D-E25A-4C10-B319-40E715031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7BD6-0D21-4FFC-8FDF-D44C5A21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B75B-CCFA-4AD8-809A-FD2220AC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BCD1-C283-4D40-8CF2-AC8CDAF41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FC92-375C-45D9-B5A8-AE35811A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DA8C-0898-48E9-9A41-3A8D68CA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F75B-674E-4944-8520-6EFE8778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3C00-9D98-4269-BDDE-B1C4CA9E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AACC-6614-4C52-BC8D-320EDA08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97D4-BD81-41E2-91D5-23D0E0C4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405F-A431-45E2-987D-E437EC74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DF34-48FE-44E0-9131-4C7B4F6F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A78E-16EE-4884-8880-8F88F64FBEBB}" type="slidenum">
              <a:rPr b="0" lang="de-A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9317160" y="6370560"/>
            <a:ext cx="57924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JK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85596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chatten eines Gebäu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55560" y="677880"/>
            <a:ext cx="1468440" cy="189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284040" y="3003120"/>
            <a:ext cx="1819440" cy="43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03480" y="1160640"/>
            <a:ext cx="4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27000" y="2986200"/>
            <a:ext cx="4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314440" y="3114720"/>
            <a:ext cx="0" cy="149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14440" y="1838160"/>
            <a:ext cx="771840" cy="12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3087720" y="1380960"/>
            <a:ext cx="760320" cy="46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352680" y="3486240"/>
            <a:ext cx="0" cy="149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352680" y="2209680"/>
            <a:ext cx="771480" cy="12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118040" y="1752120"/>
            <a:ext cx="768240" cy="46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11560" y="4597560"/>
            <a:ext cx="104436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01840" y="3121200"/>
            <a:ext cx="10447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73320" y="1844640"/>
            <a:ext cx="10447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40120" y="1378080"/>
            <a:ext cx="103176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76920" y="1752480"/>
            <a:ext cx="0" cy="733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105440" y="2476440"/>
            <a:ext cx="771480" cy="12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346560" y="4505400"/>
            <a:ext cx="768240" cy="46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10120" y="3738600"/>
            <a:ext cx="0" cy="766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83040" y="2482920"/>
            <a:ext cx="1476360" cy="53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740040"/>
            <a:ext cx="1476360" cy="53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4508640"/>
            <a:ext cx="1476360" cy="53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89720" y="4284720"/>
            <a:ext cx="0" cy="766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578560" y="3009600"/>
            <a:ext cx="771480" cy="12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587920" y="4098600"/>
            <a:ext cx="1554120" cy="94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43560" y="3016080"/>
            <a:ext cx="784440" cy="31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139160" y="3338640"/>
            <a:ext cx="0" cy="766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0"/>
            <a:ext cx="3970440" cy="2273400"/>
          </a:xfrm>
          <a:prstGeom prst="cloudCallout">
            <a:avLst>
              <a:gd name="adj1" fmla="val 41763"/>
              <a:gd name="adj2" fmla="val 78773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Stelle Schlagschatten und Eigenschatten des abgebildeten Gebäudes dar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Anfa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74160" y="2965320"/>
            <a:ext cx="6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3399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85596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chatten eines Gebäu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5560" y="677880"/>
            <a:ext cx="1468440" cy="189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84040" y="3003120"/>
            <a:ext cx="1819440" cy="43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03480" y="1160640"/>
            <a:ext cx="4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27000" y="2986200"/>
            <a:ext cx="4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314440" y="3114720"/>
            <a:ext cx="0" cy="149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314440" y="1838160"/>
            <a:ext cx="771840" cy="12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087720" y="1380960"/>
            <a:ext cx="760320" cy="46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352680" y="3486240"/>
            <a:ext cx="0" cy="149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352680" y="2209680"/>
            <a:ext cx="771480" cy="12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118040" y="1752120"/>
            <a:ext cx="768240" cy="46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11560" y="4597560"/>
            <a:ext cx="104436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01840" y="3121200"/>
            <a:ext cx="10447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73320" y="1844640"/>
            <a:ext cx="10447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40120" y="1378080"/>
            <a:ext cx="103176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76920" y="1752480"/>
            <a:ext cx="0" cy="733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105440" y="2476440"/>
            <a:ext cx="771480" cy="12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346560" y="4505400"/>
            <a:ext cx="768240" cy="46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10120" y="3738600"/>
            <a:ext cx="0" cy="766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83040" y="2482920"/>
            <a:ext cx="1476360" cy="53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740040"/>
            <a:ext cx="1476360" cy="53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14800" y="4508640"/>
            <a:ext cx="1476360" cy="53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89720" y="4284720"/>
            <a:ext cx="0" cy="766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578560" y="3009600"/>
            <a:ext cx="771480" cy="12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587920" y="4098600"/>
            <a:ext cx="1554120" cy="94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43560" y="3016080"/>
            <a:ext cx="784440" cy="31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39160" y="3338640"/>
            <a:ext cx="0" cy="766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30840" y="0"/>
            <a:ext cx="3970440" cy="2273400"/>
          </a:xfrm>
          <a:prstGeom prst="cloudCallout">
            <a:avLst>
              <a:gd name="adj1" fmla="val 41763"/>
              <a:gd name="adj2" fmla="val 78773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Überlege zuerst: Welche Kanten werden Schatten werfen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Vielleicht die roten Kant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74160" y="2965320"/>
            <a:ext cx="6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3399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346560" y="1757520"/>
            <a:ext cx="1533240" cy="3228840"/>
            <a:chOff x="3346560" y="1757520"/>
            <a:chExt cx="1533240" cy="3228840"/>
          </a:xfrm>
        </p:grpSpPr>
        <p:sp>
          <p:nvSpPr>
            <p:cNvPr id="101" name=""/>
            <p:cNvSpPr/>
            <p:nvPr/>
          </p:nvSpPr>
          <p:spPr>
            <a:xfrm flipV="1">
              <a:off x="3346560" y="3490920"/>
              <a:ext cx="0" cy="1495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346560" y="2214360"/>
              <a:ext cx="771480" cy="1276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4111560" y="1757520"/>
              <a:ext cx="768240" cy="466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358920" y="5337000"/>
            <a:ext cx="5238720" cy="3373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Wählen wir Punkte A, B und C auf diesen Kant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84480" y="3170160"/>
            <a:ext cx="4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17760" y="345276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46600" y="1892160"/>
            <a:ext cx="4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79880" y="218268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97560" y="1434960"/>
            <a:ext cx="4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30840" y="172548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489480"/>
            <a:ext cx="959040" cy="123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346560" y="4732200"/>
            <a:ext cx="958680" cy="23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78240" y="469440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67360" y="4707000"/>
            <a:ext cx="423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2224080"/>
            <a:ext cx="1477800" cy="1909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138560" y="4148280"/>
            <a:ext cx="1430280" cy="342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53000" y="4121280"/>
            <a:ext cx="42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59480" y="410688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8920" y="5813280"/>
            <a:ext cx="6798960" cy="3373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uchen wir dann die Schattenpunkte dav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920" y="6291360"/>
            <a:ext cx="9144000" cy="3708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ist sichtbar, B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nicht. Von der Schattenstrecke A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sieht man nur einen Teil in der Basisebe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314960" y="4138200"/>
            <a:ext cx="1276200" cy="585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311720" y="4641480"/>
            <a:ext cx="177840" cy="82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85596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chatten eines Gebäu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5560" y="677880"/>
            <a:ext cx="1468440" cy="189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84040" y="3003120"/>
            <a:ext cx="1819440" cy="43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03480" y="1160640"/>
            <a:ext cx="4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000" y="2986200"/>
            <a:ext cx="4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314440" y="3114720"/>
            <a:ext cx="0" cy="149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314440" y="1838160"/>
            <a:ext cx="771840" cy="12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087720" y="1380960"/>
            <a:ext cx="760320" cy="46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352680" y="3486240"/>
            <a:ext cx="0" cy="149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352680" y="2209680"/>
            <a:ext cx="771480" cy="12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118040" y="1752120"/>
            <a:ext cx="768240" cy="46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11560" y="4597560"/>
            <a:ext cx="104436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01840" y="3121200"/>
            <a:ext cx="10447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73320" y="1844640"/>
            <a:ext cx="10447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40120" y="1378080"/>
            <a:ext cx="103176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76920" y="1752480"/>
            <a:ext cx="0" cy="733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105440" y="2476440"/>
            <a:ext cx="771480" cy="12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346560" y="4505400"/>
            <a:ext cx="768240" cy="46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10120" y="3738600"/>
            <a:ext cx="0" cy="766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83040" y="2482920"/>
            <a:ext cx="1476360" cy="53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3740040"/>
            <a:ext cx="1476360" cy="53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14800" y="4508640"/>
            <a:ext cx="1476360" cy="53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89720" y="4284720"/>
            <a:ext cx="0" cy="766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578560" y="3009600"/>
            <a:ext cx="771480" cy="12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587920" y="4098600"/>
            <a:ext cx="1554120" cy="94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43560" y="3016080"/>
            <a:ext cx="784440" cy="31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39160" y="3338640"/>
            <a:ext cx="0" cy="766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30840" y="0"/>
            <a:ext cx="3970440" cy="2273400"/>
          </a:xfrm>
          <a:prstGeom prst="cloudCallout">
            <a:avLst>
              <a:gd name="adj1" fmla="val 41763"/>
              <a:gd name="adj2" fmla="val 78773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Wie geht‘s weiter mit dem „Schattenrand“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In der „vorderen senkrechten Ebene“ muss der Schatten weiter geh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074160" y="2965320"/>
            <a:ext cx="6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3399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346560" y="1757520"/>
            <a:ext cx="1533240" cy="3228840"/>
            <a:chOff x="3346560" y="1757520"/>
            <a:chExt cx="1533240" cy="3228840"/>
          </a:xfrm>
        </p:grpSpPr>
        <p:sp>
          <p:nvSpPr>
            <p:cNvPr id="153" name=""/>
            <p:cNvSpPr/>
            <p:nvPr/>
          </p:nvSpPr>
          <p:spPr>
            <a:xfrm flipV="1">
              <a:off x="3346560" y="3490920"/>
              <a:ext cx="0" cy="1495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346560" y="2214360"/>
              <a:ext cx="771480" cy="1276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111560" y="1757520"/>
              <a:ext cx="768240" cy="466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58920" y="5337000"/>
            <a:ext cx="5238720" cy="3373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B liegt auch in dieser senkrechten Eben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84480" y="3170160"/>
            <a:ext cx="4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17760" y="345276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46600" y="1892160"/>
            <a:ext cx="4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79880" y="218268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97560" y="1434960"/>
            <a:ext cx="4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30840" y="172548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52680" y="3489480"/>
            <a:ext cx="959040" cy="123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346560" y="4732200"/>
            <a:ext cx="958680" cy="23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78240" y="469440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67360" y="4707000"/>
            <a:ext cx="423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2224080"/>
            <a:ext cx="1477800" cy="1909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38560" y="4148280"/>
            <a:ext cx="1430280" cy="342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3000" y="4121280"/>
            <a:ext cx="42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59480" y="410688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8920" y="5813280"/>
            <a:ext cx="8650080" cy="3708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Daher muss man nur den Schnittpunkt von A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mit der unteren Kante mit B verbi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920" y="6291360"/>
            <a:ext cx="9144000" cy="3373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türlich ist diese Schattengrenze nicht mehr im schrägen Dach gültig. Wie geht‘s weit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14960" y="4138200"/>
            <a:ext cx="1276200" cy="585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1720" y="4641480"/>
            <a:ext cx="177840" cy="82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4114800" y="2215800"/>
            <a:ext cx="387360" cy="24145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4371840" y="3820680"/>
            <a:ext cx="130320" cy="809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85596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chatten eines Gebäu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55560" y="677880"/>
            <a:ext cx="1468440" cy="189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84040" y="3003120"/>
            <a:ext cx="1819440" cy="43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03480" y="1160640"/>
            <a:ext cx="4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27000" y="2986200"/>
            <a:ext cx="4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314440" y="3114720"/>
            <a:ext cx="0" cy="149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314440" y="1838160"/>
            <a:ext cx="771840" cy="12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087720" y="1380960"/>
            <a:ext cx="760320" cy="46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352680" y="3486240"/>
            <a:ext cx="0" cy="149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2209680"/>
            <a:ext cx="771480" cy="12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118040" y="1752120"/>
            <a:ext cx="768240" cy="46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11560" y="4597560"/>
            <a:ext cx="104436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301840" y="3121200"/>
            <a:ext cx="10447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73320" y="1844640"/>
            <a:ext cx="10447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40120" y="1378080"/>
            <a:ext cx="103176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1752480"/>
            <a:ext cx="0" cy="733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105440" y="2476440"/>
            <a:ext cx="771480" cy="12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346560" y="4505400"/>
            <a:ext cx="768240" cy="46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10120" y="3738600"/>
            <a:ext cx="0" cy="766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83040" y="2482920"/>
            <a:ext cx="1476360" cy="53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14800" y="3740040"/>
            <a:ext cx="1476360" cy="53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14800" y="4508640"/>
            <a:ext cx="1476360" cy="53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89720" y="4284720"/>
            <a:ext cx="0" cy="766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578560" y="3009600"/>
            <a:ext cx="771480" cy="12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587920" y="4098600"/>
            <a:ext cx="1554120" cy="94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43560" y="3016080"/>
            <a:ext cx="784440" cy="31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139160" y="3338640"/>
            <a:ext cx="0" cy="766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730840" y="0"/>
            <a:ext cx="3970440" cy="2273400"/>
          </a:xfrm>
          <a:prstGeom prst="cloudCallout">
            <a:avLst>
              <a:gd name="adj1" fmla="val 41763"/>
              <a:gd name="adj2" fmla="val 78773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Wie geht‘s am Dach weiter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Das ist nicht schwierig, weil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074160" y="2965320"/>
            <a:ext cx="6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3399"/>
                </a:solidFill>
                <a:latin typeface="Wingdings"/>
                <a:ea typeface="Wingdings"/>
              </a:rPr>
              <a:t>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346560" y="1757520"/>
            <a:ext cx="1533240" cy="3228840"/>
            <a:chOff x="3346560" y="1757520"/>
            <a:chExt cx="1533240" cy="3228840"/>
          </a:xfrm>
        </p:grpSpPr>
        <p:sp>
          <p:nvSpPr>
            <p:cNvPr id="207" name=""/>
            <p:cNvSpPr/>
            <p:nvPr/>
          </p:nvSpPr>
          <p:spPr>
            <a:xfrm flipV="1">
              <a:off x="3346560" y="3490920"/>
              <a:ext cx="0" cy="1495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3346560" y="2214360"/>
              <a:ext cx="771480" cy="1276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4111560" y="1757520"/>
              <a:ext cx="768240" cy="466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58920" y="5337000"/>
            <a:ext cx="8721720" cy="3373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Die Dachfläche ist parallel zu AB, daher muss der Schatten von AB am Dach parallel AB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84480" y="3170160"/>
            <a:ext cx="4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17760" y="345276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46600" y="1892160"/>
            <a:ext cx="4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79880" y="218268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97560" y="1434960"/>
            <a:ext cx="4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30840" y="172548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352680" y="3489480"/>
            <a:ext cx="959040" cy="123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46560" y="4732200"/>
            <a:ext cx="958680" cy="23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78240" y="469440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167360" y="4707000"/>
            <a:ext cx="423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14800" y="2224080"/>
            <a:ext cx="1477800" cy="1909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53000" y="4121280"/>
            <a:ext cx="42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59480" y="410688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8920" y="5813280"/>
            <a:ext cx="8650080" cy="3373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türlich reicht der Schatten von AB nur bis zum Schattenpunkt von B (auf dem Dac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8920" y="6291360"/>
            <a:ext cx="8569080" cy="3373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wischenbilanz: Der Schatten der Strecke AB besteht hier aus 3 verschiedenen Streck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311720" y="4641480"/>
            <a:ext cx="177840" cy="82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4371840" y="3820680"/>
            <a:ext cx="130320" cy="809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378320" y="2539800"/>
            <a:ext cx="771480" cy="127620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378320" y="3114360"/>
            <a:ext cx="423720" cy="70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85596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chatten eines Gebäu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5560" y="677880"/>
            <a:ext cx="1468440" cy="189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84040" y="3003120"/>
            <a:ext cx="1819440" cy="43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03480" y="1160640"/>
            <a:ext cx="4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27000" y="2986200"/>
            <a:ext cx="4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314440" y="3114720"/>
            <a:ext cx="0" cy="149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314440" y="1838160"/>
            <a:ext cx="771840" cy="12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087720" y="1380960"/>
            <a:ext cx="760320" cy="46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352680" y="3486240"/>
            <a:ext cx="0" cy="149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352680" y="2209680"/>
            <a:ext cx="771480" cy="12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4118040" y="1752120"/>
            <a:ext cx="768240" cy="46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311560" y="4597560"/>
            <a:ext cx="104436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301840" y="3121200"/>
            <a:ext cx="10447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73320" y="1844640"/>
            <a:ext cx="10447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40120" y="1378080"/>
            <a:ext cx="103176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876920" y="1752480"/>
            <a:ext cx="0" cy="733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105440" y="2476440"/>
            <a:ext cx="771480" cy="12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3346560" y="4505400"/>
            <a:ext cx="768240" cy="46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10120" y="3738600"/>
            <a:ext cx="0" cy="766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83040" y="2482920"/>
            <a:ext cx="1476360" cy="53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114800" y="3740040"/>
            <a:ext cx="1476360" cy="53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114800" y="4508640"/>
            <a:ext cx="1476360" cy="53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89720" y="4284720"/>
            <a:ext cx="0" cy="766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578560" y="3009600"/>
            <a:ext cx="771480" cy="12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587920" y="4098600"/>
            <a:ext cx="1554120" cy="94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343560" y="3016080"/>
            <a:ext cx="784440" cy="31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139160" y="3338640"/>
            <a:ext cx="0" cy="766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30840" y="0"/>
            <a:ext cx="3970440" cy="2273400"/>
          </a:xfrm>
          <a:prstGeom prst="cloudCallout">
            <a:avLst>
              <a:gd name="adj1" fmla="val 41763"/>
              <a:gd name="adj2" fmla="val 78773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Nun kommt die Strecke BC ins Spiel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Verlängere BC nach „hinten“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074160" y="2965320"/>
            <a:ext cx="6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3399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346560" y="1757520"/>
            <a:ext cx="1533240" cy="3228840"/>
            <a:chOff x="3346560" y="1757520"/>
            <a:chExt cx="1533240" cy="3228840"/>
          </a:xfrm>
        </p:grpSpPr>
        <p:sp>
          <p:nvSpPr>
            <p:cNvPr id="260" name=""/>
            <p:cNvSpPr/>
            <p:nvPr/>
          </p:nvSpPr>
          <p:spPr>
            <a:xfrm flipV="1">
              <a:off x="3346560" y="3490920"/>
              <a:ext cx="0" cy="1495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3346560" y="2214360"/>
              <a:ext cx="771480" cy="1276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4111560" y="1757520"/>
              <a:ext cx="768240" cy="466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58920" y="5337000"/>
            <a:ext cx="8721720" cy="3373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Und mache das auch mit dem Dachrand bis zu einem Schnittpunk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84480" y="3170160"/>
            <a:ext cx="4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317760" y="345276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46600" y="1892160"/>
            <a:ext cx="4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079880" y="218268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97560" y="1434960"/>
            <a:ext cx="4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30840" y="172548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352680" y="3489480"/>
            <a:ext cx="959040" cy="123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3346560" y="4732200"/>
            <a:ext cx="958680" cy="23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278240" y="469440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167360" y="4707000"/>
            <a:ext cx="423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224080"/>
            <a:ext cx="1477800" cy="1909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553000" y="4121280"/>
            <a:ext cx="42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559480" y="410688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8920" y="5813280"/>
            <a:ext cx="8650080" cy="3373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Durch diesen Schnittpunkt muss auch der weitere Schattenrand am Dach gehen 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58920" y="6291360"/>
            <a:ext cx="8569080" cy="3373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Aber natürlich nur bis zum „Dachende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4311720" y="4641480"/>
            <a:ext cx="177840" cy="82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4371840" y="3820680"/>
            <a:ext cx="130320" cy="809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4378320" y="3114360"/>
            <a:ext cx="423720" cy="70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4861080" y="1311120"/>
            <a:ext cx="736560" cy="44784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4883040" y="1317600"/>
            <a:ext cx="701640" cy="11620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807080" y="1312920"/>
            <a:ext cx="796680" cy="18050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800600" y="2542680"/>
            <a:ext cx="258840" cy="57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348000" y="2476440"/>
            <a:ext cx="1709640" cy="2486160"/>
          </a:xfrm>
          <a:custGeom>
            <a:avLst/>
            <a:gdLst/>
            <a:ahLst/>
            <a:rect l="l" t="t" r="r" b="b"/>
            <a:pathLst>
              <a:path w="1077" h="1566">
                <a:moveTo>
                  <a:pt x="0" y="1566"/>
                </a:moveTo>
                <a:lnTo>
                  <a:pt x="612" y="1416"/>
                </a:lnTo>
                <a:lnTo>
                  <a:pt x="732" y="1365"/>
                </a:lnTo>
                <a:lnTo>
                  <a:pt x="645" y="846"/>
                </a:lnTo>
                <a:lnTo>
                  <a:pt x="921" y="396"/>
                </a:lnTo>
                <a:lnTo>
                  <a:pt x="1077" y="39"/>
                </a:lnTo>
                <a:lnTo>
                  <a:pt x="960" y="0"/>
                </a:lnTo>
                <a:lnTo>
                  <a:pt x="480" y="795"/>
                </a:lnTo>
                <a:lnTo>
                  <a:pt x="480" y="1278"/>
                </a:lnTo>
                <a:lnTo>
                  <a:pt x="0" y="156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343320" y="1757520"/>
            <a:ext cx="1533600" cy="3214440"/>
          </a:xfrm>
          <a:custGeom>
            <a:avLst/>
            <a:gdLst/>
            <a:ahLst/>
            <a:rect l="l" t="t" r="r" b="b"/>
            <a:pathLst>
              <a:path w="966" h="2025">
                <a:moveTo>
                  <a:pt x="0" y="2025"/>
                </a:moveTo>
                <a:lnTo>
                  <a:pt x="480" y="1728"/>
                </a:lnTo>
                <a:lnTo>
                  <a:pt x="477" y="1245"/>
                </a:lnTo>
                <a:lnTo>
                  <a:pt x="963" y="447"/>
                </a:lnTo>
                <a:lnTo>
                  <a:pt x="966" y="0"/>
                </a:lnTo>
                <a:lnTo>
                  <a:pt x="486" y="291"/>
                </a:lnTo>
                <a:lnTo>
                  <a:pt x="0" y="1098"/>
                </a:lnTo>
                <a:lnTo>
                  <a:pt x="0" y="2025"/>
                </a:lnTo>
                <a:close/>
              </a:path>
            </a:pathLst>
          </a:custGeom>
          <a:solidFill>
            <a:srgbClr val="de737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85596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chatten eines Gebäu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5560" y="677880"/>
            <a:ext cx="1468440" cy="189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84040" y="3003120"/>
            <a:ext cx="1819440" cy="43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203480" y="1160640"/>
            <a:ext cx="4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27000" y="2986200"/>
            <a:ext cx="4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314440" y="3114720"/>
            <a:ext cx="0" cy="149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314440" y="1838160"/>
            <a:ext cx="771840" cy="12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3087720" y="1380960"/>
            <a:ext cx="760320" cy="46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3352680" y="3486240"/>
            <a:ext cx="0" cy="149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3352680" y="2209680"/>
            <a:ext cx="771480" cy="12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4118040" y="1752120"/>
            <a:ext cx="768240" cy="46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311560" y="4597560"/>
            <a:ext cx="104436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301840" y="3121200"/>
            <a:ext cx="10447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73320" y="1844640"/>
            <a:ext cx="10447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840120" y="1378080"/>
            <a:ext cx="103176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876920" y="1752480"/>
            <a:ext cx="0" cy="733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4105440" y="2476440"/>
            <a:ext cx="771480" cy="12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3346560" y="4505400"/>
            <a:ext cx="768240" cy="46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110120" y="3738600"/>
            <a:ext cx="0" cy="766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883040" y="2482920"/>
            <a:ext cx="1476360" cy="53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114800" y="3740040"/>
            <a:ext cx="1476360" cy="53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114800" y="4508640"/>
            <a:ext cx="1476360" cy="53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589720" y="4284720"/>
            <a:ext cx="0" cy="766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578560" y="3009600"/>
            <a:ext cx="771480" cy="12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5587920" y="4098600"/>
            <a:ext cx="1554120" cy="94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43560" y="3016080"/>
            <a:ext cx="784440" cy="31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139160" y="3338640"/>
            <a:ext cx="0" cy="766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730840" y="0"/>
            <a:ext cx="3970440" cy="2273400"/>
          </a:xfrm>
          <a:prstGeom prst="cloudCallout">
            <a:avLst>
              <a:gd name="adj1" fmla="val 41763"/>
              <a:gd name="adj2" fmla="val 78773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Damit kann man den „roten Schatten fertig zeichn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Beachte auch den roten Eigenschatt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074160" y="2965320"/>
            <a:ext cx="6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3399"/>
                </a:solidFill>
                <a:latin typeface="Wingdings"/>
                <a:ea typeface="Wingdings"/>
              </a:rPr>
              <a:t>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346560" y="1757520"/>
            <a:ext cx="1533240" cy="3228840"/>
            <a:chOff x="3346560" y="1757520"/>
            <a:chExt cx="1533240" cy="3228840"/>
          </a:xfrm>
        </p:grpSpPr>
        <p:sp>
          <p:nvSpPr>
            <p:cNvPr id="318" name=""/>
            <p:cNvSpPr/>
            <p:nvPr/>
          </p:nvSpPr>
          <p:spPr>
            <a:xfrm flipV="1">
              <a:off x="3346560" y="3490920"/>
              <a:ext cx="0" cy="1495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3346560" y="2214360"/>
              <a:ext cx="771480" cy="1276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4111560" y="1757520"/>
              <a:ext cx="768240" cy="466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352680" y="3489480"/>
            <a:ext cx="959040" cy="123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3346560" y="4732200"/>
            <a:ext cx="958680" cy="230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114800" y="2224080"/>
            <a:ext cx="671400" cy="868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4311720" y="4641480"/>
            <a:ext cx="177840" cy="82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4371840" y="3820680"/>
            <a:ext cx="130320" cy="809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378320" y="3114360"/>
            <a:ext cx="423720" cy="70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800600" y="2542680"/>
            <a:ext cx="258840" cy="57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4800600" y="2533680"/>
            <a:ext cx="258840" cy="57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343320" y="1757520"/>
            <a:ext cx="1533600" cy="3214440"/>
          </a:xfrm>
          <a:custGeom>
            <a:avLst/>
            <a:gdLst/>
            <a:ahLst/>
            <a:rect l="l" t="t" r="r" b="b"/>
            <a:pathLst>
              <a:path w="966" h="2025">
                <a:moveTo>
                  <a:pt x="0" y="2025"/>
                </a:moveTo>
                <a:lnTo>
                  <a:pt x="480" y="1728"/>
                </a:lnTo>
                <a:lnTo>
                  <a:pt x="477" y="1245"/>
                </a:lnTo>
                <a:lnTo>
                  <a:pt x="963" y="447"/>
                </a:lnTo>
                <a:lnTo>
                  <a:pt x="966" y="0"/>
                </a:lnTo>
                <a:lnTo>
                  <a:pt x="486" y="291"/>
                </a:lnTo>
                <a:lnTo>
                  <a:pt x="0" y="1098"/>
                </a:lnTo>
                <a:lnTo>
                  <a:pt x="0" y="2025"/>
                </a:lnTo>
                <a:close/>
              </a:path>
            </a:pathLst>
          </a:custGeom>
          <a:solidFill>
            <a:srgbClr val="de737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85596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chatten eines Gebäu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5560" y="677880"/>
            <a:ext cx="1468440" cy="189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84040" y="3003120"/>
            <a:ext cx="1819440" cy="43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203480" y="1160640"/>
            <a:ext cx="4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927000" y="2986200"/>
            <a:ext cx="4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314440" y="3114720"/>
            <a:ext cx="0" cy="149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314440" y="1838160"/>
            <a:ext cx="771840" cy="12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3087720" y="1380960"/>
            <a:ext cx="760320" cy="46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352680" y="3486240"/>
            <a:ext cx="0" cy="149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352680" y="2209680"/>
            <a:ext cx="771480" cy="12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4118040" y="1752120"/>
            <a:ext cx="768240" cy="46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311560" y="4597560"/>
            <a:ext cx="104436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301840" y="3121200"/>
            <a:ext cx="10447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073320" y="1844640"/>
            <a:ext cx="10447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840120" y="1378080"/>
            <a:ext cx="103176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876920" y="1752480"/>
            <a:ext cx="0" cy="733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4105440" y="2476440"/>
            <a:ext cx="771480" cy="12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3346560" y="4505400"/>
            <a:ext cx="768240" cy="46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110120" y="3738600"/>
            <a:ext cx="0" cy="766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883040" y="2482920"/>
            <a:ext cx="1476360" cy="53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114800" y="3740040"/>
            <a:ext cx="1476360" cy="53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114800" y="4508640"/>
            <a:ext cx="1476360" cy="53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589720" y="4284720"/>
            <a:ext cx="0" cy="766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5578560" y="3009600"/>
            <a:ext cx="771480" cy="12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5587920" y="4098600"/>
            <a:ext cx="1554120" cy="94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343560" y="3016080"/>
            <a:ext cx="784440" cy="31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139160" y="3338640"/>
            <a:ext cx="0" cy="766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730840" y="0"/>
            <a:ext cx="3970440" cy="2273400"/>
          </a:xfrm>
          <a:prstGeom prst="cloudCallout">
            <a:avLst>
              <a:gd name="adj1" fmla="val 41763"/>
              <a:gd name="adj2" fmla="val 78773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Gibt es noch Kanten, die Schatten bilden werden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Natürlich! Die blauen Kante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9074160" y="2965320"/>
            <a:ext cx="6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3399"/>
                </a:solidFill>
                <a:latin typeface="Wingdings"/>
                <a:ea typeface="Wingdings"/>
              </a:rPr>
              <a:t>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3346560" y="1757520"/>
            <a:ext cx="1533240" cy="3228840"/>
            <a:chOff x="3346560" y="1757520"/>
            <a:chExt cx="1533240" cy="3228840"/>
          </a:xfrm>
        </p:grpSpPr>
        <p:sp>
          <p:nvSpPr>
            <p:cNvPr id="360" name=""/>
            <p:cNvSpPr/>
            <p:nvPr/>
          </p:nvSpPr>
          <p:spPr>
            <a:xfrm flipV="1">
              <a:off x="3346560" y="3490920"/>
              <a:ext cx="0" cy="1495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3346560" y="2214360"/>
              <a:ext cx="771480" cy="1276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4111560" y="1757520"/>
              <a:ext cx="768240" cy="466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358920" y="5337000"/>
            <a:ext cx="8721720" cy="3373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Die Konstruktion ist nun aber einfach! Von allen Punkten kann man die Schattenpunkte fi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608800" y="4295880"/>
            <a:ext cx="474480" cy="614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3346560" y="4732200"/>
            <a:ext cx="958680" cy="23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346800" y="3030480"/>
            <a:ext cx="1009800" cy="1306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58920" y="5813280"/>
            <a:ext cx="8650080" cy="3373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Diese Schattenpunkte muss man nur noch verbinden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58920" y="6291360"/>
            <a:ext cx="8569080" cy="3373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Beachte auch hier den Eigenschatt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4311720" y="4641480"/>
            <a:ext cx="177840" cy="82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4371840" y="3820680"/>
            <a:ext cx="130320" cy="809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378320" y="3114360"/>
            <a:ext cx="423720" cy="70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4800600" y="2542680"/>
            <a:ext cx="258840" cy="57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348000" y="2476440"/>
            <a:ext cx="1709640" cy="2486160"/>
          </a:xfrm>
          <a:custGeom>
            <a:avLst/>
            <a:gdLst/>
            <a:ahLst/>
            <a:rect l="l" t="t" r="r" b="b"/>
            <a:pathLst>
              <a:path w="1077" h="1566">
                <a:moveTo>
                  <a:pt x="0" y="1566"/>
                </a:moveTo>
                <a:lnTo>
                  <a:pt x="612" y="1416"/>
                </a:lnTo>
                <a:lnTo>
                  <a:pt x="732" y="1365"/>
                </a:lnTo>
                <a:lnTo>
                  <a:pt x="645" y="846"/>
                </a:lnTo>
                <a:lnTo>
                  <a:pt x="921" y="396"/>
                </a:lnTo>
                <a:lnTo>
                  <a:pt x="1077" y="39"/>
                </a:lnTo>
                <a:lnTo>
                  <a:pt x="960" y="0"/>
                </a:lnTo>
                <a:lnTo>
                  <a:pt x="480" y="795"/>
                </a:lnTo>
                <a:lnTo>
                  <a:pt x="480" y="1278"/>
                </a:lnTo>
                <a:lnTo>
                  <a:pt x="0" y="156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584680" y="3002040"/>
            <a:ext cx="1555920" cy="2035080"/>
          </a:xfrm>
          <a:custGeom>
            <a:avLst/>
            <a:gdLst/>
            <a:ahLst/>
            <a:rect l="l" t="t" r="r" b="b"/>
            <a:pathLst>
              <a:path w="980" h="1282">
                <a:moveTo>
                  <a:pt x="0" y="1282"/>
                </a:moveTo>
                <a:lnTo>
                  <a:pt x="0" y="792"/>
                </a:lnTo>
                <a:lnTo>
                  <a:pt x="476" y="0"/>
                </a:lnTo>
                <a:lnTo>
                  <a:pt x="980" y="207"/>
                </a:lnTo>
                <a:lnTo>
                  <a:pt x="980" y="691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5603760" y="4916520"/>
            <a:ext cx="482760" cy="115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148520" y="3343320"/>
            <a:ext cx="474480" cy="614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7143840" y="3963960"/>
            <a:ext cx="482400" cy="115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340320" y="3003480"/>
            <a:ext cx="0" cy="158112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6346800" y="4340160"/>
            <a:ext cx="1004760" cy="241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6089760" y="4339800"/>
            <a:ext cx="1266840" cy="574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7359480" y="3965040"/>
            <a:ext cx="266760" cy="3747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5594400" y="4917600"/>
            <a:ext cx="485640" cy="1206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7143480" y="3962520"/>
            <a:ext cx="492120" cy="117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586480" y="3967200"/>
            <a:ext cx="2038320" cy="1066680"/>
          </a:xfrm>
          <a:custGeom>
            <a:avLst/>
            <a:gdLst/>
            <a:ahLst/>
            <a:rect l="l" t="t" r="r" b="b"/>
            <a:pathLst>
              <a:path w="1284" h="672">
                <a:moveTo>
                  <a:pt x="0" y="672"/>
                </a:moveTo>
                <a:lnTo>
                  <a:pt x="990" y="72"/>
                </a:lnTo>
                <a:lnTo>
                  <a:pt x="1284" y="0"/>
                </a:lnTo>
                <a:lnTo>
                  <a:pt x="1119" y="237"/>
                </a:lnTo>
                <a:lnTo>
                  <a:pt x="315" y="597"/>
                </a:lnTo>
                <a:lnTo>
                  <a:pt x="0" y="672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76760" y="2995560"/>
            <a:ext cx="1567080" cy="2043000"/>
          </a:xfrm>
          <a:custGeom>
            <a:avLst/>
            <a:gdLst/>
            <a:ahLst/>
            <a:rect l="l" t="t" r="r" b="b"/>
            <a:pathLst>
              <a:path w="987" h="1287">
                <a:moveTo>
                  <a:pt x="6" y="1287"/>
                </a:moveTo>
                <a:lnTo>
                  <a:pt x="0" y="804"/>
                </a:lnTo>
                <a:lnTo>
                  <a:pt x="483" y="0"/>
                </a:lnTo>
                <a:lnTo>
                  <a:pt x="987" y="210"/>
                </a:lnTo>
                <a:lnTo>
                  <a:pt x="987" y="687"/>
                </a:lnTo>
                <a:lnTo>
                  <a:pt x="6" y="1287"/>
                </a:lnTo>
                <a:close/>
              </a:path>
            </a:pathLst>
          </a:custGeom>
          <a:solidFill>
            <a:srgbClr val="add1f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7153200" y="3794040"/>
            <a:ext cx="473040" cy="273240"/>
          </a:xfrm>
          <a:custGeom>
            <a:avLst/>
            <a:gdLst/>
            <a:ahLst/>
            <a:rect l="l" t="t" r="r" b="b"/>
            <a:pathLst>
              <a:path w="298" h="172">
                <a:moveTo>
                  <a:pt x="4" y="0"/>
                </a:moveTo>
                <a:lnTo>
                  <a:pt x="298" y="106"/>
                </a:lnTo>
                <a:lnTo>
                  <a:pt x="0" y="172"/>
                </a:lnTo>
                <a:lnTo>
                  <a:pt x="4" y="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148440" y="3427560"/>
            <a:ext cx="1476360" cy="53784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43320" y="1757520"/>
            <a:ext cx="1533600" cy="3214440"/>
          </a:xfrm>
          <a:custGeom>
            <a:avLst/>
            <a:gdLst/>
            <a:ahLst/>
            <a:rect l="l" t="t" r="r" b="b"/>
            <a:pathLst>
              <a:path w="966" h="2025">
                <a:moveTo>
                  <a:pt x="0" y="2025"/>
                </a:moveTo>
                <a:lnTo>
                  <a:pt x="480" y="1728"/>
                </a:lnTo>
                <a:lnTo>
                  <a:pt x="477" y="1245"/>
                </a:lnTo>
                <a:lnTo>
                  <a:pt x="963" y="447"/>
                </a:lnTo>
                <a:lnTo>
                  <a:pt x="966" y="0"/>
                </a:lnTo>
                <a:lnTo>
                  <a:pt x="486" y="291"/>
                </a:lnTo>
                <a:lnTo>
                  <a:pt x="0" y="1098"/>
                </a:lnTo>
                <a:lnTo>
                  <a:pt x="0" y="2025"/>
                </a:lnTo>
                <a:close/>
              </a:path>
            </a:pathLst>
          </a:custGeom>
          <a:solidFill>
            <a:srgbClr val="de737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85596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chatten eines Gebäu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5560" y="677880"/>
            <a:ext cx="1468440" cy="189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284040" y="3003120"/>
            <a:ext cx="1819440" cy="43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203480" y="1160640"/>
            <a:ext cx="4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27000" y="2986200"/>
            <a:ext cx="4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2314440" y="3114720"/>
            <a:ext cx="0" cy="149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2314440" y="1838160"/>
            <a:ext cx="771840" cy="12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3087720" y="1380960"/>
            <a:ext cx="760320" cy="46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3352680" y="3486240"/>
            <a:ext cx="0" cy="149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3352680" y="2209680"/>
            <a:ext cx="771480" cy="12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4118040" y="1752120"/>
            <a:ext cx="768240" cy="46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311560" y="4597560"/>
            <a:ext cx="104436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301840" y="3121200"/>
            <a:ext cx="10447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073320" y="1844640"/>
            <a:ext cx="10447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40120" y="1378080"/>
            <a:ext cx="103176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876920" y="1752480"/>
            <a:ext cx="0" cy="733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4105440" y="2476440"/>
            <a:ext cx="771480" cy="12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346560" y="4505400"/>
            <a:ext cx="768240" cy="46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110120" y="3738600"/>
            <a:ext cx="0" cy="766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83040" y="2482920"/>
            <a:ext cx="1476360" cy="53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114800" y="3740040"/>
            <a:ext cx="1476360" cy="53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114800" y="4508640"/>
            <a:ext cx="1476360" cy="53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589720" y="4284720"/>
            <a:ext cx="0" cy="766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5578560" y="3009600"/>
            <a:ext cx="771480" cy="12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5587920" y="4098600"/>
            <a:ext cx="1554120" cy="94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343560" y="3016080"/>
            <a:ext cx="784440" cy="31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139160" y="3338640"/>
            <a:ext cx="0" cy="766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730840" y="0"/>
            <a:ext cx="3970440" cy="2273400"/>
          </a:xfrm>
          <a:prstGeom prst="cloudCallout">
            <a:avLst>
              <a:gd name="adj1" fmla="val 41763"/>
              <a:gd name="adj2" fmla="val 78773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Die rückwärtige Wand des kleinen Hausteils wirft auch noch einen Schatten, von dem nur ein kleiner Teil zu sehen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074160" y="2965320"/>
            <a:ext cx="6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3399"/>
                </a:solidFill>
                <a:latin typeface="Wingdings"/>
                <a:ea typeface="Wingdings"/>
              </a:rPr>
              <a:t>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3346560" y="1757520"/>
            <a:ext cx="1533240" cy="3228840"/>
            <a:chOff x="3346560" y="1757520"/>
            <a:chExt cx="1533240" cy="3228840"/>
          </a:xfrm>
        </p:grpSpPr>
        <p:sp>
          <p:nvSpPr>
            <p:cNvPr id="419" name=""/>
            <p:cNvSpPr/>
            <p:nvPr/>
          </p:nvSpPr>
          <p:spPr>
            <a:xfrm flipV="1">
              <a:off x="3346560" y="3490920"/>
              <a:ext cx="0" cy="1495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3346560" y="2214360"/>
              <a:ext cx="771480" cy="1276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4111560" y="1757520"/>
              <a:ext cx="768240" cy="466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358920" y="5337000"/>
            <a:ext cx="5562360" cy="3373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Mit diesem grünen Schatten ist die Konstruktion komplet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608800" y="4295880"/>
            <a:ext cx="474480" cy="614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3346560" y="4732200"/>
            <a:ext cx="958680" cy="23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346800" y="3030480"/>
            <a:ext cx="1009800" cy="1306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311720" y="4641480"/>
            <a:ext cx="177840" cy="82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 flipV="1">
            <a:off x="4371840" y="3820680"/>
            <a:ext cx="130320" cy="809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4378320" y="3114360"/>
            <a:ext cx="423720" cy="70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4800600" y="2542680"/>
            <a:ext cx="258840" cy="57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348000" y="2476440"/>
            <a:ext cx="1709640" cy="2486160"/>
          </a:xfrm>
          <a:custGeom>
            <a:avLst/>
            <a:gdLst/>
            <a:ahLst/>
            <a:rect l="l" t="t" r="r" b="b"/>
            <a:pathLst>
              <a:path w="1077" h="1566">
                <a:moveTo>
                  <a:pt x="0" y="1566"/>
                </a:moveTo>
                <a:lnTo>
                  <a:pt x="612" y="1416"/>
                </a:lnTo>
                <a:lnTo>
                  <a:pt x="732" y="1365"/>
                </a:lnTo>
                <a:lnTo>
                  <a:pt x="645" y="846"/>
                </a:lnTo>
                <a:lnTo>
                  <a:pt x="921" y="396"/>
                </a:lnTo>
                <a:lnTo>
                  <a:pt x="1077" y="39"/>
                </a:lnTo>
                <a:lnTo>
                  <a:pt x="960" y="0"/>
                </a:lnTo>
                <a:lnTo>
                  <a:pt x="480" y="795"/>
                </a:lnTo>
                <a:lnTo>
                  <a:pt x="480" y="1278"/>
                </a:lnTo>
                <a:lnTo>
                  <a:pt x="0" y="156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584680" y="3002040"/>
            <a:ext cx="1555920" cy="2035080"/>
          </a:xfrm>
          <a:custGeom>
            <a:avLst/>
            <a:gdLst/>
            <a:ahLst/>
            <a:rect l="l" t="t" r="r" b="b"/>
            <a:pathLst>
              <a:path w="980" h="1282">
                <a:moveTo>
                  <a:pt x="0" y="1282"/>
                </a:moveTo>
                <a:lnTo>
                  <a:pt x="0" y="792"/>
                </a:lnTo>
                <a:lnTo>
                  <a:pt x="476" y="0"/>
                </a:lnTo>
                <a:lnTo>
                  <a:pt x="980" y="207"/>
                </a:lnTo>
                <a:lnTo>
                  <a:pt x="980" y="691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5603760" y="4916520"/>
            <a:ext cx="482760" cy="115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148520" y="3343320"/>
            <a:ext cx="474480" cy="614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143840" y="3963960"/>
            <a:ext cx="482400" cy="115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340320" y="3003480"/>
            <a:ext cx="0" cy="158112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6346800" y="4340160"/>
            <a:ext cx="1004760" cy="241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6089760" y="4339800"/>
            <a:ext cx="1266840" cy="574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7359480" y="3965040"/>
            <a:ext cx="266760" cy="3747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5594400" y="4917600"/>
            <a:ext cx="485640" cy="1206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7143480" y="3962520"/>
            <a:ext cx="492120" cy="117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86480" y="3967200"/>
            <a:ext cx="2038320" cy="1066680"/>
          </a:xfrm>
          <a:custGeom>
            <a:avLst/>
            <a:gdLst/>
            <a:ahLst/>
            <a:rect l="l" t="t" r="r" b="b"/>
            <a:pathLst>
              <a:path w="1284" h="672">
                <a:moveTo>
                  <a:pt x="0" y="672"/>
                </a:moveTo>
                <a:lnTo>
                  <a:pt x="990" y="72"/>
                </a:lnTo>
                <a:lnTo>
                  <a:pt x="1284" y="0"/>
                </a:lnTo>
                <a:lnTo>
                  <a:pt x="1119" y="237"/>
                </a:lnTo>
                <a:lnTo>
                  <a:pt x="315" y="597"/>
                </a:lnTo>
                <a:lnTo>
                  <a:pt x="0" y="672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576760" y="2995560"/>
            <a:ext cx="1567080" cy="2043000"/>
          </a:xfrm>
          <a:custGeom>
            <a:avLst/>
            <a:gdLst/>
            <a:ahLst/>
            <a:rect l="l" t="t" r="r" b="b"/>
            <a:pathLst>
              <a:path w="987" h="1287">
                <a:moveTo>
                  <a:pt x="6" y="1287"/>
                </a:moveTo>
                <a:lnTo>
                  <a:pt x="0" y="804"/>
                </a:lnTo>
                <a:lnTo>
                  <a:pt x="483" y="0"/>
                </a:lnTo>
                <a:lnTo>
                  <a:pt x="987" y="210"/>
                </a:lnTo>
                <a:lnTo>
                  <a:pt x="987" y="687"/>
                </a:lnTo>
                <a:lnTo>
                  <a:pt x="6" y="1287"/>
                </a:lnTo>
                <a:close/>
              </a:path>
            </a:pathLst>
          </a:custGeom>
          <a:solidFill>
            <a:srgbClr val="add1f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3343320" y="1757520"/>
            <a:ext cx="1533600" cy="3214440"/>
          </a:xfrm>
          <a:custGeom>
            <a:avLst/>
            <a:gdLst/>
            <a:ahLst/>
            <a:rect l="l" t="t" r="r" b="b"/>
            <a:pathLst>
              <a:path w="966" h="2025">
                <a:moveTo>
                  <a:pt x="0" y="2025"/>
                </a:moveTo>
                <a:lnTo>
                  <a:pt x="480" y="1728"/>
                </a:lnTo>
                <a:lnTo>
                  <a:pt x="477" y="1245"/>
                </a:lnTo>
                <a:lnTo>
                  <a:pt x="963" y="447"/>
                </a:lnTo>
                <a:lnTo>
                  <a:pt x="966" y="0"/>
                </a:lnTo>
                <a:lnTo>
                  <a:pt x="486" y="291"/>
                </a:lnTo>
                <a:lnTo>
                  <a:pt x="0" y="1098"/>
                </a:lnTo>
                <a:lnTo>
                  <a:pt x="0" y="2025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85596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chatten eines Gebäu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55560" y="677880"/>
            <a:ext cx="1468440" cy="189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284040" y="3003120"/>
            <a:ext cx="1819440" cy="43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03480" y="1160640"/>
            <a:ext cx="4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927000" y="2986200"/>
            <a:ext cx="4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2314440" y="3114720"/>
            <a:ext cx="0" cy="149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2314440" y="1838160"/>
            <a:ext cx="771840" cy="12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3087720" y="1380960"/>
            <a:ext cx="760320" cy="46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3352680" y="3486240"/>
            <a:ext cx="0" cy="149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3352680" y="2209680"/>
            <a:ext cx="771480" cy="12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4118040" y="1752120"/>
            <a:ext cx="768240" cy="46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311560" y="4597560"/>
            <a:ext cx="104436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301840" y="3121200"/>
            <a:ext cx="10447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073320" y="1844640"/>
            <a:ext cx="10447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840120" y="1378080"/>
            <a:ext cx="103176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876920" y="1752480"/>
            <a:ext cx="0" cy="733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4105440" y="2476440"/>
            <a:ext cx="771480" cy="12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3346560" y="4505400"/>
            <a:ext cx="768240" cy="46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110120" y="3738600"/>
            <a:ext cx="0" cy="766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883040" y="2482920"/>
            <a:ext cx="1476360" cy="53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114800" y="3740040"/>
            <a:ext cx="1476360" cy="53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114800" y="4508640"/>
            <a:ext cx="1476360" cy="53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5587920" y="4098600"/>
            <a:ext cx="1554120" cy="94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343560" y="3016080"/>
            <a:ext cx="784440" cy="31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39160" y="3338640"/>
            <a:ext cx="0" cy="766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730840" y="0"/>
            <a:ext cx="3970440" cy="2273400"/>
          </a:xfrm>
          <a:prstGeom prst="cloudCallout">
            <a:avLst>
              <a:gd name="adj1" fmla="val 41763"/>
              <a:gd name="adj2" fmla="val 78773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as Resultat – wie es sein so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9074160" y="2965320"/>
            <a:ext cx="6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3399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332160" y="2484360"/>
            <a:ext cx="1709640" cy="2486160"/>
          </a:xfrm>
          <a:custGeom>
            <a:avLst/>
            <a:gdLst/>
            <a:ahLst/>
            <a:rect l="l" t="t" r="r" b="b"/>
            <a:pathLst>
              <a:path w="1077" h="1566">
                <a:moveTo>
                  <a:pt x="0" y="1566"/>
                </a:moveTo>
                <a:lnTo>
                  <a:pt x="612" y="1416"/>
                </a:lnTo>
                <a:lnTo>
                  <a:pt x="732" y="1365"/>
                </a:lnTo>
                <a:lnTo>
                  <a:pt x="645" y="846"/>
                </a:lnTo>
                <a:lnTo>
                  <a:pt x="921" y="396"/>
                </a:lnTo>
                <a:lnTo>
                  <a:pt x="1077" y="39"/>
                </a:lnTo>
                <a:lnTo>
                  <a:pt x="960" y="0"/>
                </a:lnTo>
                <a:lnTo>
                  <a:pt x="480" y="795"/>
                </a:lnTo>
                <a:lnTo>
                  <a:pt x="480" y="1278"/>
                </a:lnTo>
                <a:lnTo>
                  <a:pt x="0" y="1566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575320" y="3828960"/>
            <a:ext cx="2038320" cy="1227240"/>
          </a:xfrm>
          <a:custGeom>
            <a:avLst/>
            <a:gdLst/>
            <a:ahLst/>
            <a:rect l="l" t="t" r="r" b="b"/>
            <a:pathLst>
              <a:path w="1284" h="773">
                <a:moveTo>
                  <a:pt x="0" y="773"/>
                </a:moveTo>
                <a:lnTo>
                  <a:pt x="986" y="0"/>
                </a:lnTo>
                <a:lnTo>
                  <a:pt x="1284" y="101"/>
                </a:lnTo>
                <a:lnTo>
                  <a:pt x="1119" y="338"/>
                </a:lnTo>
                <a:lnTo>
                  <a:pt x="315" y="698"/>
                </a:lnTo>
                <a:lnTo>
                  <a:pt x="0" y="773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576760" y="3006720"/>
            <a:ext cx="1567080" cy="2043000"/>
          </a:xfrm>
          <a:custGeom>
            <a:avLst/>
            <a:gdLst/>
            <a:ahLst/>
            <a:rect l="l" t="t" r="r" b="b"/>
            <a:pathLst>
              <a:path w="987" h="1287">
                <a:moveTo>
                  <a:pt x="6" y="1287"/>
                </a:moveTo>
                <a:lnTo>
                  <a:pt x="0" y="804"/>
                </a:lnTo>
                <a:lnTo>
                  <a:pt x="483" y="0"/>
                </a:lnTo>
                <a:lnTo>
                  <a:pt x="987" y="210"/>
                </a:lnTo>
                <a:lnTo>
                  <a:pt x="987" y="687"/>
                </a:lnTo>
                <a:lnTo>
                  <a:pt x="6" y="1287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718400" y="4987800"/>
            <a:ext cx="13431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7000" spc="-1" strike="noStrike">
                <a:solidFill>
                  <a:srgbClr val="006600"/>
                </a:solidFill>
                <a:latin typeface="Wingdings"/>
                <a:ea typeface="Wingdings"/>
              </a:rPr>
              <a:t>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1T07:05:08Z</dcterms:created>
  <dc:creator>konf1</dc:creator>
  <dc:description/>
  <dc:language>en-US</dc:language>
  <cp:lastModifiedBy> Knöbl</cp:lastModifiedBy>
  <dcterms:modified xsi:type="dcterms:W3CDTF">2010-10-30T16:33:15Z</dcterms:modified>
  <cp:revision>18</cp:revision>
  <dc:subject/>
  <dc:title>Folie 1</dc:title>
</cp:coreProperties>
</file>