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0F5-7EF4-4AB2-A480-ED1056A4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813-F93B-4F50-8A07-FD5BE955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4CB-FBFA-4D42-AC99-67C9F42E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52C-635F-4C1B-919A-CABD33DF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205-1B0C-4761-AF85-132BCC8D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E89-AB3D-4C02-9891-F149600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E9C-B102-436A-A26F-7F8F92E4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492-055A-40BD-9319-E8149A3A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A50-2F0A-4C3B-8E79-8F71A10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8E7-B0AB-4641-BBA8-8ED8468D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68B-C952-4027-AD25-DEE4D42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4ED-4023-4E29-ABCA-3671891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2589-DAB5-489E-8297-8F68FE194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6680" y="2021040"/>
            <a:ext cx="9379080" cy="42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52920" y="1909800"/>
            <a:ext cx="4229280" cy="200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4600" y="444600"/>
            <a:ext cx="485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struiere alle Schlagschatten (auf die anderen Objektteile und die Basisebene) und alle Eigenschatten des gegebenen Hauses mit Garage und Rauchfang bei durch p und p‘ festgelegter Lichtricht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73960" y="158760"/>
            <a:ext cx="122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G Neusiedl, Klausur 2011, 8C, DG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 , Beila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30800" y="1227240"/>
            <a:ext cx="3092400" cy="1679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05600" y="3006720"/>
            <a:ext cx="3047760" cy="7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22960" y="1020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80200" y="30146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2360" y="3409920"/>
            <a:ext cx="2792520" cy="9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5100480"/>
            <a:ext cx="2792520" cy="93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7280" y="2090880"/>
            <a:ext cx="13921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8080" y="2752560"/>
            <a:ext cx="7970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38760" y="4214880"/>
            <a:ext cx="13921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3320" y="4876920"/>
            <a:ext cx="139248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43320" y="5719680"/>
            <a:ext cx="139248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7240" y="5882760"/>
            <a:ext cx="1197000" cy="30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046320" y="5726160"/>
            <a:ext cx="1197000" cy="3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2000" y="2452320"/>
            <a:ext cx="29052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879640" y="2364840"/>
            <a:ext cx="29052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62240" y="2365200"/>
            <a:ext cx="255600" cy="8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78200" y="2438280"/>
            <a:ext cx="2556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046320" y="3017520"/>
            <a:ext cx="120168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49800" y="4219560"/>
            <a:ext cx="592200" cy="64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43720" y="4682880"/>
            <a:ext cx="59184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" y="2088720"/>
            <a:ext cx="120168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160" y="3413160"/>
            <a:ext cx="0" cy="168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4343400"/>
            <a:ext cx="0" cy="16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48000" y="4876920"/>
            <a:ext cx="0" cy="84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41920" y="5337000"/>
            <a:ext cx="0" cy="84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0360" y="5033880"/>
            <a:ext cx="0" cy="84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45000" y="3728880"/>
            <a:ext cx="0" cy="66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016080"/>
            <a:ext cx="1206720" cy="71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35560" y="4678200"/>
            <a:ext cx="60192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2520" y="2451240"/>
            <a:ext cx="0" cy="67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130560" y="3123720"/>
            <a:ext cx="29196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128760" y="2523960"/>
            <a:ext cx="4680" cy="9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874600" y="2438280"/>
            <a:ext cx="4680" cy="9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68480" y="3359160"/>
            <a:ext cx="2556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4320" y="1919160"/>
            <a:ext cx="1411200" cy="1548000"/>
          </a:xfrm>
          <a:custGeom>
            <a:avLst/>
            <a:gdLst/>
            <a:ahLst/>
            <a:rect l="l" t="t" r="r" b="b"/>
            <a:pathLst>
              <a:path w="889" h="975">
                <a:moveTo>
                  <a:pt x="0" y="975"/>
                </a:moveTo>
                <a:lnTo>
                  <a:pt x="889" y="0"/>
                </a:lnTo>
                <a:lnTo>
                  <a:pt x="22" y="0"/>
                </a:lnTo>
                <a:lnTo>
                  <a:pt x="0" y="9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5068800"/>
            <a:ext cx="806400" cy="1467000"/>
          </a:xfrm>
          <a:custGeom>
            <a:avLst/>
            <a:gdLst/>
            <a:ahLst/>
            <a:rect l="l" t="t" r="r" b="b"/>
            <a:pathLst>
              <a:path w="508" h="924">
                <a:moveTo>
                  <a:pt x="508" y="171"/>
                </a:moveTo>
                <a:lnTo>
                  <a:pt x="0" y="0"/>
                </a:lnTo>
                <a:lnTo>
                  <a:pt x="12" y="924"/>
                </a:lnTo>
                <a:lnTo>
                  <a:pt x="508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52560" y="6022800"/>
            <a:ext cx="1186200" cy="370080"/>
          </a:xfrm>
          <a:custGeom>
            <a:avLst/>
            <a:gdLst/>
            <a:ahLst/>
            <a:rect l="l" t="t" r="r" b="b"/>
            <a:pathLst>
              <a:path w="747" h="233">
                <a:moveTo>
                  <a:pt x="747" y="28"/>
                </a:moveTo>
                <a:lnTo>
                  <a:pt x="0" y="0"/>
                </a:lnTo>
                <a:lnTo>
                  <a:pt x="713" y="233"/>
                </a:lnTo>
                <a:lnTo>
                  <a:pt x="74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52920" y="1909800"/>
            <a:ext cx="4229280" cy="200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4600" y="444600"/>
            <a:ext cx="485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struiere alle Schlagschatten (auf die anderen Objektteile und die Basisebene) und alle Eigenschatten des gegebenen Hauses mit Garage und Rauchfang bei durch p und p‘ festgelegter Lichtricht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73960" y="158760"/>
            <a:ext cx="122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G Neusiedl, Klausur 2011, 8C, DG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 , Beila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30800" y="1227240"/>
            <a:ext cx="3092400" cy="1679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3006720"/>
            <a:ext cx="3047760" cy="7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2960" y="1020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80200" y="30146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360" y="3409920"/>
            <a:ext cx="2792520" cy="9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5100480"/>
            <a:ext cx="2792520" cy="93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57280" y="2090880"/>
            <a:ext cx="13921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48080" y="2752560"/>
            <a:ext cx="79704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38760" y="4214880"/>
            <a:ext cx="139212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43320" y="4876920"/>
            <a:ext cx="139248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3320" y="5719680"/>
            <a:ext cx="139248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637240" y="5882760"/>
            <a:ext cx="1197000" cy="30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046320" y="5726160"/>
            <a:ext cx="1197000" cy="3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32000" y="2452320"/>
            <a:ext cx="29052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79640" y="2364840"/>
            <a:ext cx="29052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2240" y="2365200"/>
            <a:ext cx="255600" cy="8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8200" y="2438280"/>
            <a:ext cx="2556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46320" y="3017520"/>
            <a:ext cx="120168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49800" y="4219560"/>
            <a:ext cx="592200" cy="64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643720" y="4682880"/>
            <a:ext cx="59184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5600" y="2088720"/>
            <a:ext cx="120168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4160" y="3413160"/>
            <a:ext cx="0" cy="168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343400"/>
            <a:ext cx="0" cy="16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48000" y="4876920"/>
            <a:ext cx="0" cy="84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1920" y="5337000"/>
            <a:ext cx="0" cy="84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0360" y="5033880"/>
            <a:ext cx="0" cy="84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45000" y="3728880"/>
            <a:ext cx="0" cy="66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40080" y="3016080"/>
            <a:ext cx="1206720" cy="71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35560" y="4678200"/>
            <a:ext cx="60192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2520" y="2451240"/>
            <a:ext cx="0" cy="67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30560" y="3123720"/>
            <a:ext cx="29196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128760" y="2523960"/>
            <a:ext cx="4680" cy="9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74600" y="2438280"/>
            <a:ext cx="4680" cy="9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68480" y="3359160"/>
            <a:ext cx="25560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4320" y="1919160"/>
            <a:ext cx="1411200" cy="1548000"/>
          </a:xfrm>
          <a:custGeom>
            <a:avLst/>
            <a:gdLst/>
            <a:ahLst/>
            <a:rect l="l" t="t" r="r" b="b"/>
            <a:pathLst>
              <a:path w="889" h="975">
                <a:moveTo>
                  <a:pt x="0" y="975"/>
                </a:moveTo>
                <a:lnTo>
                  <a:pt x="889" y="0"/>
                </a:lnTo>
                <a:lnTo>
                  <a:pt x="22" y="0"/>
                </a:lnTo>
                <a:lnTo>
                  <a:pt x="0" y="9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5068800"/>
            <a:ext cx="806400" cy="1467000"/>
          </a:xfrm>
          <a:custGeom>
            <a:avLst/>
            <a:gdLst/>
            <a:ahLst/>
            <a:rect l="l" t="t" r="r" b="b"/>
            <a:pathLst>
              <a:path w="508" h="924">
                <a:moveTo>
                  <a:pt x="508" y="171"/>
                </a:moveTo>
                <a:lnTo>
                  <a:pt x="0" y="0"/>
                </a:lnTo>
                <a:lnTo>
                  <a:pt x="12" y="924"/>
                </a:lnTo>
                <a:lnTo>
                  <a:pt x="508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52560" y="6022800"/>
            <a:ext cx="1186200" cy="370080"/>
          </a:xfrm>
          <a:custGeom>
            <a:avLst/>
            <a:gdLst/>
            <a:ahLst/>
            <a:rect l="l" t="t" r="r" b="b"/>
            <a:pathLst>
              <a:path w="747" h="233">
                <a:moveTo>
                  <a:pt x="747" y="28"/>
                </a:moveTo>
                <a:lnTo>
                  <a:pt x="0" y="0"/>
                </a:lnTo>
                <a:lnTo>
                  <a:pt x="713" y="233"/>
                </a:lnTo>
                <a:lnTo>
                  <a:pt x="74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7:22:32Z</dcterms:created>
  <dc:creator> Knöbl</dc:creator>
  <dc:description/>
  <dc:language>en-US</dc:language>
  <cp:lastModifiedBy> Knöbl</cp:lastModifiedBy>
  <dcterms:modified xsi:type="dcterms:W3CDTF">2011-02-27T12:18:45Z</dcterms:modified>
  <cp:revision>5</cp:revision>
  <dc:subject/>
  <dc:title>Folie 1</dc:title>
</cp:coreProperties>
</file>