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10C-891F-4A15-AD29-8F0130DA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9F9-48A2-42F6-80CA-790F2A02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96F-6ED6-4ECB-A904-8E2E4981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4CC-D70E-43F3-8F3C-2AF04EEC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95C-5D1B-4DE8-A274-7C310C64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3C5E-6132-4DE6-BFD4-448741D8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FE7-DF3F-4BF1-A61A-3F495838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27C-EFFA-4758-AAAB-4BD2242B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E02-141A-42BC-B3C9-6A9F8282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5F2-5670-447E-AF18-CC86F79E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9B9-6E50-4B2C-8AB1-D721BE4A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CC2-AC46-4614-A426-F83A7B71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1312-A2D9-4555-B607-F30379D62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0" y="6381720"/>
            <a:ext cx="4986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J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477120"/>
            <a:ext cx="2057400" cy="30456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ste dein Wissen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058760" y="1065240"/>
            <a:ext cx="323640" cy="4824000"/>
            <a:chOff x="1058760" y="1065240"/>
            <a:chExt cx="323640" cy="4824000"/>
          </a:xfrm>
        </p:grpSpPr>
        <p:sp>
          <p:nvSpPr>
            <p:cNvPr id="44" name=""/>
            <p:cNvSpPr/>
            <p:nvPr/>
          </p:nvSpPr>
          <p:spPr>
            <a:xfrm>
              <a:off x="1382400" y="1350000"/>
              <a:ext cx="0" cy="4237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58760" y="1065240"/>
              <a:ext cx="3236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58760" y="5303160"/>
              <a:ext cx="3236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060720" y="1744560"/>
            <a:ext cx="438120" cy="3747960"/>
            <a:chOff x="3060720" y="1744560"/>
            <a:chExt cx="438120" cy="3747960"/>
          </a:xfrm>
        </p:grpSpPr>
        <p:sp>
          <p:nvSpPr>
            <p:cNvPr id="48" name=""/>
            <p:cNvSpPr/>
            <p:nvPr/>
          </p:nvSpPr>
          <p:spPr>
            <a:xfrm>
              <a:off x="3174840" y="5029200"/>
              <a:ext cx="32400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37040" y="1744560"/>
              <a:ext cx="323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60720" y="1969560"/>
              <a:ext cx="0" cy="3271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311040"/>
            <a:ext cx="434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Ermittle die wahre Länge der Strecke AB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Ermittle auf AB einen Punkt P, der von B 3 cm entfernt lieg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317520" cy="274680"/>
          </a:xfrm>
          <a:prstGeom prst="hexagon">
            <a:avLst>
              <a:gd name="adj" fmla="val 28899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0"/>
            <a:ext cx="317520" cy="274680"/>
          </a:xfrm>
          <a:prstGeom prst="hexagon">
            <a:avLst>
              <a:gd name="adj" fmla="val 28899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67160" y="1166760"/>
            <a:ext cx="3737160" cy="17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77400" y="1065240"/>
            <a:ext cx="152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64800" y="5521320"/>
            <a:ext cx="152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4637160"/>
            <a:ext cx="380844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442120" y="3785760"/>
            <a:ext cx="3259080" cy="18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744040" y="3724200"/>
            <a:ext cx="152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235480" y="2031840"/>
            <a:ext cx="357192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894880" y="1957320"/>
            <a:ext cx="152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61040" y="244440"/>
            <a:ext cx="434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mittle eine Gerade, welche durch P geht und auf die durch g und h aufgespannte Ebene normal ste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273800" y="1249200"/>
            <a:ext cx="438120" cy="2873520"/>
            <a:chOff x="7273800" y="1249200"/>
            <a:chExt cx="438120" cy="2873520"/>
          </a:xfrm>
        </p:grpSpPr>
        <p:sp>
          <p:nvSpPr>
            <p:cNvPr id="65" name=""/>
            <p:cNvSpPr/>
            <p:nvPr/>
          </p:nvSpPr>
          <p:spPr>
            <a:xfrm>
              <a:off x="7387920" y="3767400"/>
              <a:ext cx="324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50120" y="1249200"/>
              <a:ext cx="323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73800" y="1421640"/>
              <a:ext cx="0" cy="2507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073160" y="1913040"/>
            <a:ext cx="323640" cy="3193920"/>
            <a:chOff x="1073160" y="1913040"/>
            <a:chExt cx="323640" cy="3193920"/>
          </a:xfrm>
        </p:grpSpPr>
        <p:sp>
          <p:nvSpPr>
            <p:cNvPr id="69" name=""/>
            <p:cNvSpPr/>
            <p:nvPr/>
          </p:nvSpPr>
          <p:spPr>
            <a:xfrm>
              <a:off x="1396800" y="2101320"/>
              <a:ext cx="0" cy="280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73160" y="1913040"/>
              <a:ext cx="32364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73160" y="4718880"/>
              <a:ext cx="32364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451240" y="752400"/>
            <a:ext cx="438120" cy="5352840"/>
            <a:chOff x="2451240" y="752400"/>
            <a:chExt cx="438120" cy="5352840"/>
          </a:xfrm>
        </p:grpSpPr>
        <p:sp>
          <p:nvSpPr>
            <p:cNvPr id="73" name=""/>
            <p:cNvSpPr/>
            <p:nvPr/>
          </p:nvSpPr>
          <p:spPr>
            <a:xfrm>
              <a:off x="2565360" y="5443560"/>
              <a:ext cx="32400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27560" y="752400"/>
              <a:ext cx="32364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51240" y="1073880"/>
              <a:ext cx="0" cy="4671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0" y="311040"/>
            <a:ext cx="434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Vervollständige das in einer Ebene liegende 5-Eck ABCDE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Ermittle die wahre Gestalt des 5-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317520" cy="274680"/>
          </a:xfrm>
          <a:prstGeom prst="hexagon">
            <a:avLst>
              <a:gd name="adj" fmla="val 28899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0"/>
            <a:ext cx="317520" cy="274680"/>
          </a:xfrm>
          <a:prstGeom prst="hexagon">
            <a:avLst>
              <a:gd name="adj" fmla="val 28899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267160" y="1166760"/>
            <a:ext cx="3737160" cy="17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077400" y="1065240"/>
            <a:ext cx="152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64800" y="5521320"/>
            <a:ext cx="152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4637160"/>
            <a:ext cx="380844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61040" y="244440"/>
            <a:ext cx="434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mittle eine Ebene, welche durch P geht und auf die Gerade g normal ste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273800" y="958680"/>
            <a:ext cx="438120" cy="3907080"/>
            <a:chOff x="7273800" y="958680"/>
            <a:chExt cx="438120" cy="3907080"/>
          </a:xfrm>
        </p:grpSpPr>
        <p:sp>
          <p:nvSpPr>
            <p:cNvPr id="86" name=""/>
            <p:cNvSpPr/>
            <p:nvPr/>
          </p:nvSpPr>
          <p:spPr>
            <a:xfrm>
              <a:off x="7387920" y="4382640"/>
              <a:ext cx="3240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50120" y="958680"/>
              <a:ext cx="3236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73800" y="1193400"/>
              <a:ext cx="0" cy="3409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816360" y="1015920"/>
            <a:ext cx="323640" cy="4824000"/>
            <a:chOff x="3816360" y="1015920"/>
            <a:chExt cx="323640" cy="4824000"/>
          </a:xfrm>
        </p:grpSpPr>
        <p:sp>
          <p:nvSpPr>
            <p:cNvPr id="90" name=""/>
            <p:cNvSpPr/>
            <p:nvPr/>
          </p:nvSpPr>
          <p:spPr>
            <a:xfrm>
              <a:off x="4140000" y="1300680"/>
              <a:ext cx="0" cy="4237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16360" y="1015920"/>
              <a:ext cx="3236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5253840"/>
              <a:ext cx="3236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028960" y="2448000"/>
            <a:ext cx="438120" cy="3870000"/>
            <a:chOff x="2028960" y="2448000"/>
            <a:chExt cx="438120" cy="3870000"/>
          </a:xfrm>
        </p:grpSpPr>
        <p:sp>
          <p:nvSpPr>
            <p:cNvPr id="94" name=""/>
            <p:cNvSpPr/>
            <p:nvPr/>
          </p:nvSpPr>
          <p:spPr>
            <a:xfrm>
              <a:off x="2143080" y="5810040"/>
              <a:ext cx="32400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4920" y="2448000"/>
              <a:ext cx="32400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28960" y="2678400"/>
              <a:ext cx="0" cy="3639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394080" y="2157480"/>
            <a:ext cx="438120" cy="3870000"/>
            <a:chOff x="3394080" y="2157480"/>
            <a:chExt cx="438120" cy="3870000"/>
          </a:xfrm>
        </p:grpSpPr>
        <p:sp>
          <p:nvSpPr>
            <p:cNvPr id="98" name=""/>
            <p:cNvSpPr/>
            <p:nvPr/>
          </p:nvSpPr>
          <p:spPr>
            <a:xfrm>
              <a:off x="3508200" y="5519520"/>
              <a:ext cx="32400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70040" y="2157480"/>
              <a:ext cx="32400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94080" y="2387880"/>
              <a:ext cx="0" cy="3639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442880" y="1847880"/>
            <a:ext cx="323640" cy="4266720"/>
            <a:chOff x="1442880" y="1847880"/>
            <a:chExt cx="323640" cy="4266720"/>
          </a:xfrm>
        </p:grpSpPr>
        <p:sp>
          <p:nvSpPr>
            <p:cNvPr id="102" name=""/>
            <p:cNvSpPr/>
            <p:nvPr/>
          </p:nvSpPr>
          <p:spPr>
            <a:xfrm>
              <a:off x="1766520" y="2099520"/>
              <a:ext cx="0" cy="3748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42880" y="1847880"/>
              <a:ext cx="32364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42880" y="5596200"/>
              <a:ext cx="32364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060720" y="2233440"/>
            <a:ext cx="438120" cy="2992680"/>
            <a:chOff x="3060720" y="2233440"/>
            <a:chExt cx="438120" cy="2992680"/>
          </a:xfrm>
        </p:grpSpPr>
        <p:sp>
          <p:nvSpPr>
            <p:cNvPr id="106" name=""/>
            <p:cNvSpPr/>
            <p:nvPr/>
          </p:nvSpPr>
          <p:spPr>
            <a:xfrm>
              <a:off x="3174840" y="4856040"/>
              <a:ext cx="32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37040" y="2233440"/>
              <a:ext cx="3236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60720" y="2413080"/>
              <a:ext cx="0" cy="261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311040"/>
            <a:ext cx="434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mittle auf g einen Punkt, der so weit von A entfernt liegt wie B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317520" cy="274680"/>
          </a:xfrm>
          <a:prstGeom prst="hexagon">
            <a:avLst>
              <a:gd name="adj" fmla="val 28899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0"/>
            <a:ext cx="317520" cy="274680"/>
          </a:xfrm>
          <a:prstGeom prst="hexagon">
            <a:avLst>
              <a:gd name="adj" fmla="val 28899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267160" y="1166760"/>
            <a:ext cx="3737160" cy="17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77400" y="1065240"/>
            <a:ext cx="152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64800" y="5521320"/>
            <a:ext cx="152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4637160"/>
            <a:ext cx="380844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42120" y="3785760"/>
            <a:ext cx="3259080" cy="18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44040" y="3724200"/>
            <a:ext cx="152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35480" y="1959120"/>
            <a:ext cx="426096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345600" y="1746360"/>
            <a:ext cx="152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61040" y="244440"/>
            <a:ext cx="434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neide die durch die Geraden g und h aufgespannte Ebene mit dem Dreieck (als Teil der Ebene durch die Punkte) AB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273800" y="746280"/>
            <a:ext cx="438120" cy="3376080"/>
            <a:chOff x="7273800" y="746280"/>
            <a:chExt cx="438120" cy="3376080"/>
          </a:xfrm>
        </p:grpSpPr>
        <p:sp>
          <p:nvSpPr>
            <p:cNvPr id="123" name=""/>
            <p:cNvSpPr/>
            <p:nvPr/>
          </p:nvSpPr>
          <p:spPr>
            <a:xfrm>
              <a:off x="7387920" y="3705120"/>
              <a:ext cx="324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50120" y="746280"/>
              <a:ext cx="32364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73800" y="948960"/>
              <a:ext cx="0" cy="2946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643720" y="2897280"/>
            <a:ext cx="323640" cy="3552840"/>
            <a:chOff x="5643720" y="2897280"/>
            <a:chExt cx="323640" cy="3552840"/>
          </a:xfrm>
        </p:grpSpPr>
        <p:sp>
          <p:nvSpPr>
            <p:cNvPr id="127" name=""/>
            <p:cNvSpPr/>
            <p:nvPr/>
          </p:nvSpPr>
          <p:spPr>
            <a:xfrm>
              <a:off x="5967360" y="3106800"/>
              <a:ext cx="0" cy="3121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43720" y="2897280"/>
              <a:ext cx="323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43720" y="6018480"/>
              <a:ext cx="323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9117000" y="1938240"/>
            <a:ext cx="438120" cy="3363480"/>
            <a:chOff x="9117000" y="1938240"/>
            <a:chExt cx="438120" cy="3363480"/>
          </a:xfrm>
        </p:grpSpPr>
        <p:sp>
          <p:nvSpPr>
            <p:cNvPr id="131" name=""/>
            <p:cNvSpPr/>
            <p:nvPr/>
          </p:nvSpPr>
          <p:spPr>
            <a:xfrm>
              <a:off x="9231120" y="4885920"/>
              <a:ext cx="3240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193320" y="1938240"/>
              <a:ext cx="3236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17000" y="2140200"/>
              <a:ext cx="0" cy="29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V="1">
            <a:off x="496800" y="982800"/>
            <a:ext cx="3737160" cy="17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35520" y="1146240"/>
            <a:ext cx="152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35320" y="5442120"/>
            <a:ext cx="152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08200" y="5356080"/>
            <a:ext cx="3700440" cy="67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24160" y="1719360"/>
            <a:ext cx="0" cy="3003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00160" y="1484280"/>
            <a:ext cx="324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00160" y="4521240"/>
            <a:ext cx="324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17640" y="954000"/>
            <a:ext cx="438120" cy="3098520"/>
            <a:chOff x="2717640" y="954000"/>
            <a:chExt cx="438120" cy="3098520"/>
          </a:xfrm>
        </p:grpSpPr>
        <p:sp>
          <p:nvSpPr>
            <p:cNvPr id="142" name=""/>
            <p:cNvSpPr/>
            <p:nvPr/>
          </p:nvSpPr>
          <p:spPr>
            <a:xfrm>
              <a:off x="2831760" y="3669480"/>
              <a:ext cx="3240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93960" y="954000"/>
              <a:ext cx="32364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1140120"/>
              <a:ext cx="0" cy="2704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77720" y="311040"/>
            <a:ext cx="386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s Quadrat ABCD liegt in der 2.-projizierenden Eben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Stelle es in Grund und Aufriss d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317520" cy="274680"/>
          </a:xfrm>
          <a:prstGeom prst="hexagon">
            <a:avLst>
              <a:gd name="adj" fmla="val 28899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0"/>
            <a:ext cx="317520" cy="274680"/>
          </a:xfrm>
          <a:prstGeom prst="hexagon">
            <a:avLst>
              <a:gd name="adj" fmla="val 28899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267160" y="1166760"/>
            <a:ext cx="3737160" cy="17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077400" y="1065240"/>
            <a:ext cx="152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64800" y="5521320"/>
            <a:ext cx="152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637160"/>
            <a:ext cx="380844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61040" y="244440"/>
            <a:ext cx="434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neide die Gerade g mit dem Dreieck ABC! Stelle die räumliche Situation unter Beachtung der Sichtbarkeit d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273800" y="746280"/>
            <a:ext cx="438120" cy="3376080"/>
            <a:chOff x="7273800" y="746280"/>
            <a:chExt cx="438120" cy="3376080"/>
          </a:xfrm>
        </p:grpSpPr>
        <p:sp>
          <p:nvSpPr>
            <p:cNvPr id="155" name=""/>
            <p:cNvSpPr/>
            <p:nvPr/>
          </p:nvSpPr>
          <p:spPr>
            <a:xfrm>
              <a:off x="7387920" y="3705120"/>
              <a:ext cx="324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50120" y="746280"/>
              <a:ext cx="32364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73800" y="948960"/>
              <a:ext cx="0" cy="2946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643720" y="2897280"/>
            <a:ext cx="323640" cy="3552840"/>
            <a:chOff x="5643720" y="2897280"/>
            <a:chExt cx="323640" cy="3552840"/>
          </a:xfrm>
        </p:grpSpPr>
        <p:sp>
          <p:nvSpPr>
            <p:cNvPr id="159" name=""/>
            <p:cNvSpPr/>
            <p:nvPr/>
          </p:nvSpPr>
          <p:spPr>
            <a:xfrm>
              <a:off x="5967360" y="3106800"/>
              <a:ext cx="0" cy="3121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3720" y="2897280"/>
              <a:ext cx="323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3720" y="6018480"/>
              <a:ext cx="323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9117000" y="1938240"/>
            <a:ext cx="438120" cy="3363480"/>
            <a:chOff x="9117000" y="1938240"/>
            <a:chExt cx="438120" cy="3363480"/>
          </a:xfrm>
        </p:grpSpPr>
        <p:sp>
          <p:nvSpPr>
            <p:cNvPr id="163" name=""/>
            <p:cNvSpPr/>
            <p:nvPr/>
          </p:nvSpPr>
          <p:spPr>
            <a:xfrm>
              <a:off x="9231120" y="4885920"/>
              <a:ext cx="3240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193320" y="1938240"/>
              <a:ext cx="3236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117000" y="2140200"/>
              <a:ext cx="0" cy="29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V="1">
            <a:off x="154080" y="592200"/>
            <a:ext cx="3736800" cy="17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92440" y="765000"/>
            <a:ext cx="1526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19:19:16Z</dcterms:created>
  <dc:creator>Knöbl</dc:creator>
  <dc:description/>
  <dc:language>en-US</dc:language>
  <cp:lastModifiedBy> Knöbl</cp:lastModifiedBy>
  <dcterms:modified xsi:type="dcterms:W3CDTF">2011-02-20T19:52:30Z</dcterms:modified>
  <cp:revision>4</cp:revision>
  <dc:subject/>
  <dc:title>PowerPoint-Präsentation</dc:title>
</cp:coreProperties>
</file>