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602-9BB1-4359-AF5F-8E7798D3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336-C147-46FB-9340-3B17A818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798-F5BC-48AB-9B93-2DE65AA4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E67-27FC-44C9-8F1B-8F9E8D04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42E-C381-46AA-B44C-4B7A0833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C28-34E7-4B71-9BB8-A5447418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727-A4E3-43A6-AF9C-C18F4BF5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9CE-311B-40C2-BC63-CD82AD49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8E4-0053-40BB-9C2C-CCCE68D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85A-C3CF-47D4-86AA-175277CF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6EB-59AD-46FB-95A7-065DD2E1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773-E3AC-46D4-B66B-2064601B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E18-8FB9-49E8-9E23-A1E6C6AB2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9317160" y="6370560"/>
            <a:ext cx="57924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JK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08000" y="0"/>
            <a:ext cx="78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ctr" pos="3587760"/>
                <a:tab algn="r" pos="869328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gelschnit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lip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be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er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9880" y="900000"/>
            <a:ext cx="0" cy="571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40560" y="885960"/>
            <a:ext cx="0" cy="571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720" y="801720"/>
            <a:ext cx="2109960" cy="1490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13120" y="801720"/>
            <a:ext cx="2109960" cy="1490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243920" y="611280"/>
            <a:ext cx="2111040" cy="2977920"/>
            <a:chOff x="7243920" y="611280"/>
            <a:chExt cx="2111040" cy="2977920"/>
          </a:xfrm>
        </p:grpSpPr>
        <p:sp>
          <p:nvSpPr>
            <p:cNvPr id="48" name=""/>
            <p:cNvSpPr/>
            <p:nvPr/>
          </p:nvSpPr>
          <p:spPr>
            <a:xfrm>
              <a:off x="7245360" y="2098800"/>
              <a:ext cx="2109600" cy="1490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243920" y="610920"/>
              <a:ext cx="2109600" cy="1490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47840" y="2548080"/>
            <a:ext cx="2114280" cy="211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2548080"/>
            <a:ext cx="2114640" cy="211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3789360"/>
            <a:ext cx="2114640" cy="211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023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belschnitt - Asympto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17400" y="587520"/>
            <a:ext cx="2116080" cy="5532120"/>
            <a:chOff x="617400" y="587520"/>
            <a:chExt cx="2116080" cy="5532120"/>
          </a:xfrm>
        </p:grpSpPr>
        <p:grpSp>
          <p:nvGrpSpPr>
            <p:cNvPr id="55" name=""/>
            <p:cNvGrpSpPr/>
            <p:nvPr/>
          </p:nvGrpSpPr>
          <p:grpSpPr>
            <a:xfrm>
              <a:off x="622440" y="826920"/>
              <a:ext cx="2111040" cy="2977920"/>
              <a:chOff x="622440" y="826920"/>
              <a:chExt cx="2111040" cy="2977920"/>
            </a:xfrm>
          </p:grpSpPr>
          <p:sp>
            <p:nvSpPr>
              <p:cNvPr id="56" name=""/>
              <p:cNvSpPr/>
              <p:nvPr/>
            </p:nvSpPr>
            <p:spPr>
              <a:xfrm>
                <a:off x="623880" y="2314440"/>
                <a:ext cx="2109600" cy="14904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622440" y="826560"/>
                <a:ext cx="2109600" cy="14904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17400" y="4005360"/>
              <a:ext cx="2114640" cy="211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82560" y="587520"/>
              <a:ext cx="1365480" cy="35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7960" y="2316240"/>
              <a:ext cx="0" cy="2746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02120" y="587520"/>
            <a:ext cx="2115720" cy="5532120"/>
            <a:chOff x="4002120" y="587520"/>
            <a:chExt cx="2115720" cy="5532120"/>
          </a:xfrm>
        </p:grpSpPr>
        <p:grpSp>
          <p:nvGrpSpPr>
            <p:cNvPr id="62" name=""/>
            <p:cNvGrpSpPr/>
            <p:nvPr/>
          </p:nvGrpSpPr>
          <p:grpSpPr>
            <a:xfrm>
              <a:off x="4006800" y="826920"/>
              <a:ext cx="2111040" cy="2977920"/>
              <a:chOff x="4006800" y="826920"/>
              <a:chExt cx="2111040" cy="2977920"/>
            </a:xfrm>
          </p:grpSpPr>
          <p:sp>
            <p:nvSpPr>
              <p:cNvPr id="63" name=""/>
              <p:cNvSpPr/>
              <p:nvPr/>
            </p:nvSpPr>
            <p:spPr>
              <a:xfrm>
                <a:off x="4008240" y="2314440"/>
                <a:ext cx="2109600" cy="14904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4006800" y="826560"/>
                <a:ext cx="2109600" cy="14904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002120" y="4005360"/>
              <a:ext cx="2114280" cy="211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066920" y="587520"/>
              <a:ext cx="1365120" cy="35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62320" y="2316240"/>
              <a:ext cx="0" cy="2746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182000" y="587520"/>
            <a:ext cx="2115720" cy="5532120"/>
            <a:chOff x="7182000" y="587520"/>
            <a:chExt cx="2115720" cy="5532120"/>
          </a:xfrm>
        </p:grpSpPr>
        <p:grpSp>
          <p:nvGrpSpPr>
            <p:cNvPr id="69" name=""/>
            <p:cNvGrpSpPr/>
            <p:nvPr/>
          </p:nvGrpSpPr>
          <p:grpSpPr>
            <a:xfrm>
              <a:off x="7186680" y="826920"/>
              <a:ext cx="2111040" cy="2977920"/>
              <a:chOff x="7186680" y="826920"/>
              <a:chExt cx="2111040" cy="2977920"/>
            </a:xfrm>
          </p:grpSpPr>
          <p:sp>
            <p:nvSpPr>
              <p:cNvPr id="70" name=""/>
              <p:cNvSpPr/>
              <p:nvPr/>
            </p:nvSpPr>
            <p:spPr>
              <a:xfrm>
                <a:off x="7188120" y="2314440"/>
                <a:ext cx="2109600" cy="14904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7186680" y="826560"/>
                <a:ext cx="2109600" cy="14904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7182000" y="4005360"/>
              <a:ext cx="2114280" cy="211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246800" y="587520"/>
              <a:ext cx="1365120" cy="35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42200" y="2316240"/>
              <a:ext cx="0" cy="2746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04720" y="6154560"/>
            <a:ext cx="217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Bestimme den Mittelpunkt der Hyper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7480" y="6154560"/>
            <a:ext cx="217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Lege die „Richtebene“ fest (durch Kegelspitze) und schneide mit Ke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8320" y="6154560"/>
            <a:ext cx="244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Asymptoten gehen durch Mittelpunkt und haben Erzeugendenrich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05:08Z</dcterms:created>
  <dc:creator>konf1</dc:creator>
  <dc:description/>
  <dc:language>en-US</dc:language>
  <cp:lastModifiedBy>konf1</cp:lastModifiedBy>
  <dcterms:modified xsi:type="dcterms:W3CDTF">2004-12-09T07:34:35Z</dcterms:modified>
  <cp:revision>5</cp:revision>
  <dc:subject/>
  <dc:title>Folie 1</dc:title>
</cp:coreProperties>
</file>