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6858000" cy="990758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AD08-0F53-4735-BA4E-91603638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DF53-090C-4408-9417-742C7B42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4A9F-D37D-4818-811B-BDD40A44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C3C8-18E1-4CBF-BD1A-2E0FD5CD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A132-D66F-4D0C-A048-46BD77EA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C38F-3312-40BA-9429-026ED7D0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4CDE-2DE5-4DAF-9213-58A989D0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7B3E-7BE9-4DF5-BAE4-A224711B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7BD4-C33A-430A-AAF6-0D2F4405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94A1-C388-467A-8CE0-F885B53A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C724-690A-4A7A-B865-79B823D5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337D-338A-4C9C-B6E1-C9DF680E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012F-2778-4330-B418-DDE26E60044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WordArt 7"/>
          <p:cNvSpPr txBox="1"/>
          <p:nvPr/>
        </p:nvSpPr>
        <p:spPr>
          <a:xfrm>
            <a:off x="6359400" y="9429840"/>
            <a:ext cx="49860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J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4"/>
          <p:cNvSpPr/>
          <p:nvPr/>
        </p:nvSpPr>
        <p:spPr>
          <a:xfrm>
            <a:off x="0" y="495288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629400" y="483876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0" y="152280"/>
            <a:ext cx="491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) Ermittle die wahre Länge der Strecke SM!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) Ermittle auf SM einen Punkt P, der von S 6 cm entfernt lieg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16"/>
          <p:cNvGrpSpPr/>
          <p:nvPr/>
        </p:nvGrpSpPr>
        <p:grpSpPr>
          <a:xfrm>
            <a:off x="990720" y="1542960"/>
            <a:ext cx="323640" cy="5486400"/>
            <a:chOff x="990720" y="1542960"/>
            <a:chExt cx="323640" cy="5486400"/>
          </a:xfrm>
        </p:grpSpPr>
        <p:sp>
          <p:nvSpPr>
            <p:cNvPr id="46" name="Line 7"/>
            <p:cNvSpPr/>
            <p:nvPr/>
          </p:nvSpPr>
          <p:spPr>
            <a:xfrm>
              <a:off x="1314360" y="1866960"/>
              <a:ext cx="0" cy="4819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990720" y="1542960"/>
              <a:ext cx="3236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S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990720" y="6362640"/>
              <a:ext cx="3236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S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Group 17"/>
          <p:cNvGrpSpPr/>
          <p:nvPr/>
        </p:nvGrpSpPr>
        <p:grpSpPr>
          <a:xfrm>
            <a:off x="4610160" y="3124080"/>
            <a:ext cx="438120" cy="5391360"/>
            <a:chOff x="4610160" y="3124080"/>
            <a:chExt cx="438120" cy="5391360"/>
          </a:xfrm>
        </p:grpSpPr>
        <p:sp>
          <p:nvSpPr>
            <p:cNvPr id="50" name="Rectangle 10"/>
            <p:cNvSpPr/>
            <p:nvPr/>
          </p:nvSpPr>
          <p:spPr>
            <a:xfrm>
              <a:off x="4724280" y="7848720"/>
              <a:ext cx="32400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>
              <a:off x="4686480" y="3124080"/>
              <a:ext cx="3236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2"/>
            <p:cNvSpPr/>
            <p:nvPr/>
          </p:nvSpPr>
          <p:spPr>
            <a:xfrm>
              <a:off x="4610160" y="3448080"/>
              <a:ext cx="0" cy="4705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Text Box 18"/>
          <p:cNvSpPr/>
          <p:nvPr/>
        </p:nvSpPr>
        <p:spPr>
          <a:xfrm>
            <a:off x="228600" y="9156600"/>
            <a:ext cx="491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m.: Diese Aufgaben zählen zu den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aßaufgabe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, bei denen meßbare Größen wie Längen und Winkel bestimmt oder aufgetragen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38240" y="-360"/>
            <a:ext cx="2219400" cy="2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Titel: Wahre Länge einer Strec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2050"/>
          <p:cNvSpPr/>
          <p:nvPr/>
        </p:nvSpPr>
        <p:spPr>
          <a:xfrm>
            <a:off x="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051"/>
          <p:cNvSpPr/>
          <p:nvPr/>
        </p:nvSpPr>
        <p:spPr>
          <a:xfrm>
            <a:off x="6629400" y="567684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052"/>
          <p:cNvSpPr/>
          <p:nvPr/>
        </p:nvSpPr>
        <p:spPr>
          <a:xfrm>
            <a:off x="0" y="152280"/>
            <a:ext cx="491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3200" indent="-6732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gabe 2: Stelle den Kegel mit der Spitze S, dem Basiskreismittelpunkt M und einem Punkt I des Mantels in Grund- und Aufriss dar. Konstruiere dabei auch Umrisspunkte und achte auf die Sichtbarke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2053"/>
          <p:cNvGrpSpPr/>
          <p:nvPr/>
        </p:nvGrpSpPr>
        <p:grpSpPr>
          <a:xfrm>
            <a:off x="990720" y="1542960"/>
            <a:ext cx="323640" cy="5486400"/>
            <a:chOff x="990720" y="1542960"/>
            <a:chExt cx="323640" cy="5486400"/>
          </a:xfrm>
        </p:grpSpPr>
        <p:sp>
          <p:nvSpPr>
            <p:cNvPr id="211" name="Line 2054"/>
            <p:cNvSpPr/>
            <p:nvPr/>
          </p:nvSpPr>
          <p:spPr>
            <a:xfrm>
              <a:off x="1314360" y="1866960"/>
              <a:ext cx="0" cy="4819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2055"/>
            <p:cNvSpPr/>
            <p:nvPr/>
          </p:nvSpPr>
          <p:spPr>
            <a:xfrm>
              <a:off x="990720" y="1542960"/>
              <a:ext cx="3236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S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2056"/>
            <p:cNvSpPr/>
            <p:nvPr/>
          </p:nvSpPr>
          <p:spPr>
            <a:xfrm>
              <a:off x="990720" y="6362640"/>
              <a:ext cx="3236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S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2057"/>
          <p:cNvGrpSpPr/>
          <p:nvPr/>
        </p:nvGrpSpPr>
        <p:grpSpPr>
          <a:xfrm>
            <a:off x="4610160" y="3124080"/>
            <a:ext cx="438120" cy="5391360"/>
            <a:chOff x="4610160" y="3124080"/>
            <a:chExt cx="438120" cy="5391360"/>
          </a:xfrm>
        </p:grpSpPr>
        <p:sp>
          <p:nvSpPr>
            <p:cNvPr id="215" name="Rectangle 2058"/>
            <p:cNvSpPr/>
            <p:nvPr/>
          </p:nvSpPr>
          <p:spPr>
            <a:xfrm>
              <a:off x="4724280" y="7848720"/>
              <a:ext cx="32400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2059"/>
            <p:cNvSpPr/>
            <p:nvPr/>
          </p:nvSpPr>
          <p:spPr>
            <a:xfrm>
              <a:off x="4686480" y="3124080"/>
              <a:ext cx="3236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2060"/>
            <p:cNvSpPr/>
            <p:nvPr/>
          </p:nvSpPr>
          <p:spPr>
            <a:xfrm>
              <a:off x="4610160" y="3448080"/>
              <a:ext cx="0" cy="4705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38240" y="-360"/>
            <a:ext cx="2219400" cy="2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Titel: Drehkeg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2062"/>
          <p:cNvGrpSpPr/>
          <p:nvPr/>
        </p:nvGrpSpPr>
        <p:grpSpPr>
          <a:xfrm>
            <a:off x="3232080" y="4056120"/>
            <a:ext cx="438120" cy="4131720"/>
            <a:chOff x="3232080" y="4056120"/>
            <a:chExt cx="438120" cy="4131720"/>
          </a:xfrm>
        </p:grpSpPr>
        <p:sp>
          <p:nvSpPr>
            <p:cNvPr id="220" name="Rectangle 2063"/>
            <p:cNvSpPr/>
            <p:nvPr/>
          </p:nvSpPr>
          <p:spPr>
            <a:xfrm>
              <a:off x="3346200" y="7677000"/>
              <a:ext cx="32400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I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2064"/>
            <p:cNvSpPr/>
            <p:nvPr/>
          </p:nvSpPr>
          <p:spPr>
            <a:xfrm>
              <a:off x="3308400" y="4056120"/>
              <a:ext cx="32364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I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2065"/>
            <p:cNvSpPr/>
            <p:nvPr/>
          </p:nvSpPr>
          <p:spPr>
            <a:xfrm>
              <a:off x="3232080" y="4304160"/>
              <a:ext cx="0" cy="3606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050"/>
          <p:cNvSpPr/>
          <p:nvPr/>
        </p:nvSpPr>
        <p:spPr>
          <a:xfrm>
            <a:off x="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051"/>
          <p:cNvSpPr/>
          <p:nvPr/>
        </p:nvSpPr>
        <p:spPr>
          <a:xfrm>
            <a:off x="6629400" y="567684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052"/>
          <p:cNvSpPr/>
          <p:nvPr/>
        </p:nvSpPr>
        <p:spPr>
          <a:xfrm>
            <a:off x="0" y="152280"/>
            <a:ext cx="66294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Schnitt zweier Ebe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Zwei Ebenen werden durch Dreiecke repräsentiert. Schneide das Dreieck ABC mit dem Dreieck PQR und stelle die Situation unter Berücksichtigung der Sichtbarkeit in Grund- und Aufriss d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2053"/>
          <p:cNvGrpSpPr/>
          <p:nvPr/>
        </p:nvGrpSpPr>
        <p:grpSpPr>
          <a:xfrm>
            <a:off x="990720" y="1542960"/>
            <a:ext cx="323640" cy="5486400"/>
            <a:chOff x="990720" y="1542960"/>
            <a:chExt cx="323640" cy="5486400"/>
          </a:xfrm>
        </p:grpSpPr>
        <p:sp>
          <p:nvSpPr>
            <p:cNvPr id="227" name="Line 2054"/>
            <p:cNvSpPr/>
            <p:nvPr/>
          </p:nvSpPr>
          <p:spPr>
            <a:xfrm>
              <a:off x="1314360" y="1866960"/>
              <a:ext cx="0" cy="4819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2055"/>
            <p:cNvSpPr/>
            <p:nvPr/>
          </p:nvSpPr>
          <p:spPr>
            <a:xfrm>
              <a:off x="990720" y="1542960"/>
              <a:ext cx="3236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2056"/>
            <p:cNvSpPr/>
            <p:nvPr/>
          </p:nvSpPr>
          <p:spPr>
            <a:xfrm>
              <a:off x="990720" y="6362640"/>
              <a:ext cx="3236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2057"/>
          <p:cNvGrpSpPr/>
          <p:nvPr/>
        </p:nvGrpSpPr>
        <p:grpSpPr>
          <a:xfrm>
            <a:off x="5437080" y="2293920"/>
            <a:ext cx="438120" cy="6132240"/>
            <a:chOff x="5437080" y="2293920"/>
            <a:chExt cx="438120" cy="6132240"/>
          </a:xfrm>
        </p:grpSpPr>
        <p:sp>
          <p:nvSpPr>
            <p:cNvPr id="231" name="Rectangle 2058"/>
            <p:cNvSpPr/>
            <p:nvPr/>
          </p:nvSpPr>
          <p:spPr>
            <a:xfrm>
              <a:off x="5551200" y="7668000"/>
              <a:ext cx="324000" cy="75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2059"/>
            <p:cNvSpPr/>
            <p:nvPr/>
          </p:nvSpPr>
          <p:spPr>
            <a:xfrm>
              <a:off x="5513400" y="2293920"/>
              <a:ext cx="323640" cy="75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2060"/>
            <p:cNvSpPr/>
            <p:nvPr/>
          </p:nvSpPr>
          <p:spPr>
            <a:xfrm>
              <a:off x="5437080" y="2662200"/>
              <a:ext cx="0" cy="53517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09680" y="-360"/>
            <a:ext cx="2847960" cy="2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Beilage 2, Name: 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2062"/>
          <p:cNvGrpSpPr/>
          <p:nvPr/>
        </p:nvGrpSpPr>
        <p:grpSpPr>
          <a:xfrm>
            <a:off x="3606840" y="4835520"/>
            <a:ext cx="438120" cy="4890600"/>
            <a:chOff x="3606840" y="4835520"/>
            <a:chExt cx="438120" cy="4890600"/>
          </a:xfrm>
        </p:grpSpPr>
        <p:sp>
          <p:nvSpPr>
            <p:cNvPr id="236" name="Rectangle 2063"/>
            <p:cNvSpPr/>
            <p:nvPr/>
          </p:nvSpPr>
          <p:spPr>
            <a:xfrm>
              <a:off x="3720960" y="9121320"/>
              <a:ext cx="32400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2064"/>
            <p:cNvSpPr/>
            <p:nvPr/>
          </p:nvSpPr>
          <p:spPr>
            <a:xfrm>
              <a:off x="3683160" y="4835520"/>
              <a:ext cx="323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2065"/>
            <p:cNvSpPr/>
            <p:nvPr/>
          </p:nvSpPr>
          <p:spPr>
            <a:xfrm>
              <a:off x="3606840" y="5129280"/>
              <a:ext cx="0" cy="4268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Group 2057"/>
          <p:cNvGrpSpPr/>
          <p:nvPr/>
        </p:nvGrpSpPr>
        <p:grpSpPr>
          <a:xfrm>
            <a:off x="2575080" y="5129280"/>
            <a:ext cx="438120" cy="1438200"/>
            <a:chOff x="2575080" y="5129280"/>
            <a:chExt cx="438120" cy="1438200"/>
          </a:xfrm>
        </p:grpSpPr>
        <p:sp>
          <p:nvSpPr>
            <p:cNvPr id="240" name="Rectangle 2058"/>
            <p:cNvSpPr/>
            <p:nvPr/>
          </p:nvSpPr>
          <p:spPr>
            <a:xfrm>
              <a:off x="2689200" y="6389640"/>
              <a:ext cx="324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2059"/>
            <p:cNvSpPr/>
            <p:nvPr/>
          </p:nvSpPr>
          <p:spPr>
            <a:xfrm>
              <a:off x="2651400" y="5129280"/>
              <a:ext cx="3236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2060"/>
            <p:cNvSpPr/>
            <p:nvPr/>
          </p:nvSpPr>
          <p:spPr>
            <a:xfrm>
              <a:off x="2575080" y="5215680"/>
              <a:ext cx="0" cy="1255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2053"/>
          <p:cNvGrpSpPr/>
          <p:nvPr/>
        </p:nvGrpSpPr>
        <p:grpSpPr>
          <a:xfrm>
            <a:off x="371520" y="3675240"/>
            <a:ext cx="323640" cy="5486400"/>
            <a:chOff x="371520" y="3675240"/>
            <a:chExt cx="323640" cy="5486400"/>
          </a:xfrm>
        </p:grpSpPr>
        <p:sp>
          <p:nvSpPr>
            <p:cNvPr id="244" name="Line 2054"/>
            <p:cNvSpPr/>
            <p:nvPr/>
          </p:nvSpPr>
          <p:spPr>
            <a:xfrm>
              <a:off x="695160" y="3999240"/>
              <a:ext cx="0" cy="4819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2055"/>
            <p:cNvSpPr/>
            <p:nvPr/>
          </p:nvSpPr>
          <p:spPr>
            <a:xfrm>
              <a:off x="371520" y="3675240"/>
              <a:ext cx="3236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Q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2056"/>
            <p:cNvSpPr/>
            <p:nvPr/>
          </p:nvSpPr>
          <p:spPr>
            <a:xfrm>
              <a:off x="371520" y="8494920"/>
              <a:ext cx="3236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Q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Group 2057"/>
          <p:cNvGrpSpPr/>
          <p:nvPr/>
        </p:nvGrpSpPr>
        <p:grpSpPr>
          <a:xfrm>
            <a:off x="5778360" y="1371600"/>
            <a:ext cx="438120" cy="6017760"/>
            <a:chOff x="5778360" y="1371600"/>
            <a:chExt cx="438120" cy="6017760"/>
          </a:xfrm>
        </p:grpSpPr>
        <p:sp>
          <p:nvSpPr>
            <p:cNvPr id="248" name="Rectangle 2058"/>
            <p:cNvSpPr/>
            <p:nvPr/>
          </p:nvSpPr>
          <p:spPr>
            <a:xfrm>
              <a:off x="5892480" y="6645240"/>
              <a:ext cx="324000" cy="7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2059"/>
            <p:cNvSpPr/>
            <p:nvPr/>
          </p:nvSpPr>
          <p:spPr>
            <a:xfrm>
              <a:off x="5854680" y="1371600"/>
              <a:ext cx="323640" cy="7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2060"/>
            <p:cNvSpPr/>
            <p:nvPr/>
          </p:nvSpPr>
          <p:spPr>
            <a:xfrm>
              <a:off x="5778360" y="1733040"/>
              <a:ext cx="0" cy="5252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5"/>
          <p:cNvSpPr/>
          <p:nvPr/>
        </p:nvSpPr>
        <p:spPr>
          <a:xfrm>
            <a:off x="254160" y="222120"/>
            <a:ext cx="5994360" cy="6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ine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erspektive Affinität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ist durch die Achse s und ein Punktepaar A,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(im Beispiel M, M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) festgelegt. Konstruiere das „Bild“ des Kreises k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16"/>
          <p:cNvSpPr/>
          <p:nvPr/>
        </p:nvSpPr>
        <p:spPr>
          <a:xfrm>
            <a:off x="1015920" y="2006640"/>
            <a:ext cx="2067120" cy="2066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Oval 28"/>
          <p:cNvSpPr/>
          <p:nvPr/>
        </p:nvSpPr>
        <p:spPr>
          <a:xfrm>
            <a:off x="1994040" y="2990880"/>
            <a:ext cx="101520" cy="101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9"/>
          <p:cNvSpPr/>
          <p:nvPr/>
        </p:nvSpPr>
        <p:spPr>
          <a:xfrm>
            <a:off x="2006640" y="2711520"/>
            <a:ext cx="355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30"/>
          <p:cNvSpPr/>
          <p:nvPr/>
        </p:nvSpPr>
        <p:spPr>
          <a:xfrm>
            <a:off x="4413240" y="3740040"/>
            <a:ext cx="355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31"/>
          <p:cNvSpPr/>
          <p:nvPr/>
        </p:nvSpPr>
        <p:spPr>
          <a:xfrm>
            <a:off x="4362480" y="4032360"/>
            <a:ext cx="101520" cy="101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33"/>
          <p:cNvSpPr/>
          <p:nvPr/>
        </p:nvSpPr>
        <p:spPr>
          <a:xfrm>
            <a:off x="3479760" y="920880"/>
            <a:ext cx="216000" cy="40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34"/>
          <p:cNvSpPr/>
          <p:nvPr/>
        </p:nvSpPr>
        <p:spPr>
          <a:xfrm>
            <a:off x="952560" y="2063880"/>
            <a:ext cx="355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5"/>
          <p:cNvSpPr/>
          <p:nvPr/>
        </p:nvSpPr>
        <p:spPr>
          <a:xfrm>
            <a:off x="3105000" y="1187280"/>
            <a:ext cx="355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84"/>
          <p:cNvSpPr/>
          <p:nvPr/>
        </p:nvSpPr>
        <p:spPr>
          <a:xfrm>
            <a:off x="1015920" y="6991200"/>
            <a:ext cx="2067120" cy="2067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85"/>
          <p:cNvSpPr/>
          <p:nvPr/>
        </p:nvSpPr>
        <p:spPr>
          <a:xfrm>
            <a:off x="1994040" y="7975440"/>
            <a:ext cx="101520" cy="101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86"/>
          <p:cNvSpPr/>
          <p:nvPr/>
        </p:nvSpPr>
        <p:spPr>
          <a:xfrm>
            <a:off x="2006640" y="7696080"/>
            <a:ext cx="355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87"/>
          <p:cNvSpPr/>
          <p:nvPr/>
        </p:nvSpPr>
        <p:spPr>
          <a:xfrm>
            <a:off x="4413240" y="8724960"/>
            <a:ext cx="355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88"/>
          <p:cNvSpPr/>
          <p:nvPr/>
        </p:nvSpPr>
        <p:spPr>
          <a:xfrm>
            <a:off x="4362480" y="9016920"/>
            <a:ext cx="101520" cy="101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89"/>
          <p:cNvSpPr/>
          <p:nvPr/>
        </p:nvSpPr>
        <p:spPr>
          <a:xfrm>
            <a:off x="3479760" y="5905440"/>
            <a:ext cx="216000" cy="400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90"/>
          <p:cNvSpPr/>
          <p:nvPr/>
        </p:nvSpPr>
        <p:spPr>
          <a:xfrm>
            <a:off x="952560" y="7048440"/>
            <a:ext cx="355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91"/>
          <p:cNvSpPr/>
          <p:nvPr/>
        </p:nvSpPr>
        <p:spPr>
          <a:xfrm>
            <a:off x="3105000" y="6172200"/>
            <a:ext cx="355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133520" y="-360"/>
            <a:ext cx="2724120" cy="22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Titel: Perspektive Affinitä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026"/>
          <p:cNvSpPr/>
          <p:nvPr/>
        </p:nvSpPr>
        <p:spPr>
          <a:xfrm>
            <a:off x="0" y="304920"/>
            <a:ext cx="261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Zeichne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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Zylinder im Grundriss! (Lege die Schnittkurve durch Krümmungskreise fest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027"/>
          <p:cNvSpPr/>
          <p:nvPr/>
        </p:nvSpPr>
        <p:spPr>
          <a:xfrm>
            <a:off x="0" y="5543640"/>
            <a:ext cx="1866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Zeichne den fehlenden Grundriss des Mantelpunktes P (eine Lösung genügt)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028"/>
          <p:cNvSpPr/>
          <p:nvPr/>
        </p:nvSpPr>
        <p:spPr>
          <a:xfrm>
            <a:off x="2114640" y="81900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029"/>
          <p:cNvSpPr/>
          <p:nvPr/>
        </p:nvSpPr>
        <p:spPr>
          <a:xfrm>
            <a:off x="2266920" y="419040"/>
            <a:ext cx="438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1030"/>
          <p:cNvSpPr/>
          <p:nvPr/>
        </p:nvSpPr>
        <p:spPr>
          <a:xfrm>
            <a:off x="2847960" y="819000"/>
            <a:ext cx="2838600" cy="1676520"/>
          </a:xfrm>
          <a:custGeom>
            <a:avLst/>
            <a:gdLst/>
            <a:ahLst/>
            <a:rect l="l" t="t" r="r" b="b"/>
            <a:pathLst>
              <a:path w="1788" h="1056">
                <a:moveTo>
                  <a:pt x="270" y="0"/>
                </a:moveTo>
                <a:lnTo>
                  <a:pt x="0" y="300"/>
                </a:lnTo>
                <a:lnTo>
                  <a:pt x="816" y="1056"/>
                </a:lnTo>
                <a:lnTo>
                  <a:pt x="1788" y="0"/>
                </a:lnTo>
                <a:lnTo>
                  <a:pt x="270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031"/>
          <p:cNvSpPr/>
          <p:nvPr/>
        </p:nvSpPr>
        <p:spPr>
          <a:xfrm flipV="1">
            <a:off x="3038400" y="352440"/>
            <a:ext cx="1838520" cy="19512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032"/>
          <p:cNvSpPr/>
          <p:nvPr/>
        </p:nvSpPr>
        <p:spPr>
          <a:xfrm>
            <a:off x="4524480" y="295200"/>
            <a:ext cx="22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033"/>
          <p:cNvSpPr/>
          <p:nvPr/>
        </p:nvSpPr>
        <p:spPr>
          <a:xfrm>
            <a:off x="2171880" y="3876840"/>
            <a:ext cx="441936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034"/>
          <p:cNvSpPr/>
          <p:nvPr/>
        </p:nvSpPr>
        <p:spPr>
          <a:xfrm>
            <a:off x="6276960" y="3562200"/>
            <a:ext cx="22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035"/>
          <p:cNvSpPr/>
          <p:nvPr/>
        </p:nvSpPr>
        <p:spPr>
          <a:xfrm>
            <a:off x="3581280" y="7639200"/>
            <a:ext cx="2067120" cy="2066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036"/>
          <p:cNvSpPr/>
          <p:nvPr/>
        </p:nvSpPr>
        <p:spPr>
          <a:xfrm>
            <a:off x="3591000" y="6800760"/>
            <a:ext cx="206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037"/>
          <p:cNvSpPr/>
          <p:nvPr/>
        </p:nvSpPr>
        <p:spPr>
          <a:xfrm flipV="1">
            <a:off x="4619520" y="6058080"/>
            <a:ext cx="0" cy="2619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1038"/>
          <p:cNvSpPr/>
          <p:nvPr/>
        </p:nvSpPr>
        <p:spPr>
          <a:xfrm>
            <a:off x="3591000" y="6048360"/>
            <a:ext cx="2066760" cy="752400"/>
          </a:xfrm>
          <a:custGeom>
            <a:avLst/>
            <a:gdLst/>
            <a:ahLst/>
            <a:rect l="l" t="t" r="r" b="b"/>
            <a:pathLst>
              <a:path w="1302" h="474">
                <a:moveTo>
                  <a:pt x="0" y="474"/>
                </a:moveTo>
                <a:lnTo>
                  <a:pt x="648" y="0"/>
                </a:lnTo>
                <a:lnTo>
                  <a:pt x="1302" y="4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039"/>
          <p:cNvSpPr/>
          <p:nvPr/>
        </p:nvSpPr>
        <p:spPr>
          <a:xfrm>
            <a:off x="4648320" y="5816520"/>
            <a:ext cx="22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040"/>
          <p:cNvSpPr/>
          <p:nvPr/>
        </p:nvSpPr>
        <p:spPr>
          <a:xfrm>
            <a:off x="4648320" y="6800760"/>
            <a:ext cx="22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041"/>
          <p:cNvSpPr/>
          <p:nvPr/>
        </p:nvSpPr>
        <p:spPr>
          <a:xfrm>
            <a:off x="4734000" y="8791560"/>
            <a:ext cx="476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‘=M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1042"/>
          <p:cNvSpPr/>
          <p:nvPr/>
        </p:nvSpPr>
        <p:spPr>
          <a:xfrm>
            <a:off x="5010120" y="662796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043"/>
          <p:cNvSpPr/>
          <p:nvPr/>
        </p:nvSpPr>
        <p:spPr>
          <a:xfrm>
            <a:off x="5057640" y="6496200"/>
            <a:ext cx="2286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1044"/>
          <p:cNvSpPr/>
          <p:nvPr/>
        </p:nvSpPr>
        <p:spPr>
          <a:xfrm>
            <a:off x="4597560" y="677700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133520" y="-360"/>
            <a:ext cx="2724120" cy="22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Titel: 2 Aufgaben: Ellipse, "Angitter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3"/>
          <p:cNvSpPr/>
          <p:nvPr/>
        </p:nvSpPr>
        <p:spPr>
          <a:xfrm>
            <a:off x="168120" y="157320"/>
            <a:ext cx="350532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 ist ein Mantelpunkt des Drehkegels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eschreibe den Konstruktionsgang für die Aufgabe, den Kegel mit einer Ebene zu schneiden, und führe Teile durch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telle die Symmetrieebene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von PM in einem 3. Riss (dem Grundriss zugeordnet) projizierend dar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chneide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mit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! Gib vom Kegelschnitt k im Aufriss konjungierte Durchmesser an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rmittle eventuell vorhandene Umriss- und "Endpunkte" von k im Aufris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11"/>
          <p:cNvSpPr/>
          <p:nvPr/>
        </p:nvSpPr>
        <p:spPr>
          <a:xfrm>
            <a:off x="1890720" y="5541840"/>
            <a:ext cx="3057480" cy="3057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3"/>
          <p:cNvSpPr/>
          <p:nvPr/>
        </p:nvSpPr>
        <p:spPr>
          <a:xfrm flipV="1">
            <a:off x="3422520" y="3662280"/>
            <a:ext cx="3240" cy="340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5"/>
          <p:cNvSpPr/>
          <p:nvPr/>
        </p:nvSpPr>
        <p:spPr>
          <a:xfrm>
            <a:off x="3454560" y="3483000"/>
            <a:ext cx="33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6"/>
          <p:cNvSpPr/>
          <p:nvPr/>
        </p:nvSpPr>
        <p:spPr>
          <a:xfrm>
            <a:off x="3397320" y="5133960"/>
            <a:ext cx="33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7"/>
          <p:cNvSpPr/>
          <p:nvPr/>
        </p:nvSpPr>
        <p:spPr>
          <a:xfrm>
            <a:off x="3405240" y="7012080"/>
            <a:ext cx="7048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‘=M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18"/>
          <p:cNvSpPr/>
          <p:nvPr/>
        </p:nvSpPr>
        <p:spPr>
          <a:xfrm>
            <a:off x="3089160" y="6605640"/>
            <a:ext cx="3672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9"/>
          <p:cNvSpPr/>
          <p:nvPr/>
        </p:nvSpPr>
        <p:spPr>
          <a:xfrm>
            <a:off x="2959200" y="6600960"/>
            <a:ext cx="33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20"/>
          <p:cNvSpPr/>
          <p:nvPr/>
        </p:nvSpPr>
        <p:spPr>
          <a:xfrm>
            <a:off x="3406680" y="5173560"/>
            <a:ext cx="3672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22"/>
          <p:cNvSpPr/>
          <p:nvPr/>
        </p:nvSpPr>
        <p:spPr>
          <a:xfrm>
            <a:off x="1895400" y="3664080"/>
            <a:ext cx="3052800" cy="1528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51"/>
          <p:cNvSpPr/>
          <p:nvPr/>
        </p:nvSpPr>
        <p:spPr>
          <a:xfrm>
            <a:off x="3743280" y="447840"/>
            <a:ext cx="3114720" cy="307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Konstruktionsga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6)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52"/>
          <p:cNvSpPr/>
          <p:nvPr/>
        </p:nvSpPr>
        <p:spPr>
          <a:xfrm>
            <a:off x="3898800" y="171360"/>
            <a:ext cx="13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am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33520" y="-360"/>
            <a:ext cx="2724120" cy="22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Titel: Planung Schnitt Kegel - Ebe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168120" y="157320"/>
            <a:ext cx="6486840" cy="30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Times New Roman"/>
              </a:rPr>
              <a:t>Perspektive Affinitä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) Was sind konjungierte Durchmesser eines Kreis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) Wie sind konjungierte Durchmesser einer Ellipse definier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) Bildet man ein Quadrat perspektiv affin ab, entsteht ein ______________________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) Das affin perspektive Bild eines Kreises ist eine Ellipse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Unterwirf den abgebildeten Kreis der durch Achse a und Punktepaar (P,P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) fest gelegten Affinität! Ermittle von der Bildellipse nur Haupt- und Nebenscheitel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Oval 3"/>
          <p:cNvSpPr/>
          <p:nvPr/>
        </p:nvSpPr>
        <p:spPr>
          <a:xfrm>
            <a:off x="404640" y="3541680"/>
            <a:ext cx="3057840" cy="3057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8"/>
          <p:cNvSpPr/>
          <p:nvPr/>
        </p:nvSpPr>
        <p:spPr>
          <a:xfrm>
            <a:off x="2536920" y="3652920"/>
            <a:ext cx="3636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2511360" y="3381480"/>
            <a:ext cx="339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3879720" y="209520"/>
            <a:ext cx="13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am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Oval 14"/>
          <p:cNvSpPr/>
          <p:nvPr/>
        </p:nvSpPr>
        <p:spPr>
          <a:xfrm>
            <a:off x="1917720" y="5062680"/>
            <a:ext cx="3636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5"/>
          <p:cNvSpPr/>
          <p:nvPr/>
        </p:nvSpPr>
        <p:spPr>
          <a:xfrm flipV="1">
            <a:off x="295200" y="3562200"/>
            <a:ext cx="5800680" cy="491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16"/>
          <p:cNvSpPr/>
          <p:nvPr/>
        </p:nvSpPr>
        <p:spPr>
          <a:xfrm>
            <a:off x="5759280" y="3629160"/>
            <a:ext cx="339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7"/>
          <p:cNvSpPr/>
          <p:nvPr/>
        </p:nvSpPr>
        <p:spPr>
          <a:xfrm>
            <a:off x="5721480" y="5676840"/>
            <a:ext cx="339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18"/>
          <p:cNvSpPr/>
          <p:nvPr/>
        </p:nvSpPr>
        <p:spPr>
          <a:xfrm>
            <a:off x="5689440" y="5862600"/>
            <a:ext cx="3672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133520" y="-360"/>
            <a:ext cx="2724120" cy="22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Titel: Affinität Kreis - Ellip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050"/>
          <p:cNvSpPr/>
          <p:nvPr/>
        </p:nvSpPr>
        <p:spPr>
          <a:xfrm>
            <a:off x="168120" y="-14400"/>
            <a:ext cx="668988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fgabe 1: Parabeldarstel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chneide den gegebenen Drehkegels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ach einer Parabel! Von der Trägerebene der Parabel kennt man eine Hauptgerade. Wähle jene Parabel, die im 3. Riss als kürzere Strecke erschein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telle von der Parabel mindestens 4 Punkte samt Tangenten in Grund- und Aufriss dar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Konstruiere auch eventuell vorhandene Umrisspunkt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Oval 2051"/>
          <p:cNvSpPr/>
          <p:nvPr/>
        </p:nvSpPr>
        <p:spPr>
          <a:xfrm>
            <a:off x="1268280" y="5194440"/>
            <a:ext cx="3057480" cy="3057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2052"/>
          <p:cNvSpPr/>
          <p:nvPr/>
        </p:nvSpPr>
        <p:spPr>
          <a:xfrm flipV="1">
            <a:off x="2790720" y="1971360"/>
            <a:ext cx="5040" cy="4745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2053"/>
          <p:cNvSpPr/>
          <p:nvPr/>
        </p:nvSpPr>
        <p:spPr>
          <a:xfrm>
            <a:off x="2841480" y="1782720"/>
            <a:ext cx="339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2054"/>
          <p:cNvSpPr/>
          <p:nvPr/>
        </p:nvSpPr>
        <p:spPr>
          <a:xfrm>
            <a:off x="2774880" y="4786200"/>
            <a:ext cx="339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2055"/>
          <p:cNvSpPr/>
          <p:nvPr/>
        </p:nvSpPr>
        <p:spPr>
          <a:xfrm>
            <a:off x="2782800" y="6664320"/>
            <a:ext cx="704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‘=M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2057"/>
          <p:cNvSpPr/>
          <p:nvPr/>
        </p:nvSpPr>
        <p:spPr>
          <a:xfrm>
            <a:off x="774720" y="5586480"/>
            <a:ext cx="339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Oval 2058"/>
          <p:cNvSpPr/>
          <p:nvPr/>
        </p:nvSpPr>
        <p:spPr>
          <a:xfrm>
            <a:off x="2765520" y="4826160"/>
            <a:ext cx="3636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2059"/>
          <p:cNvSpPr/>
          <p:nvPr/>
        </p:nvSpPr>
        <p:spPr>
          <a:xfrm>
            <a:off x="1273320" y="1963800"/>
            <a:ext cx="3052440" cy="2881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061"/>
          <p:cNvSpPr/>
          <p:nvPr/>
        </p:nvSpPr>
        <p:spPr>
          <a:xfrm>
            <a:off x="3860640" y="0"/>
            <a:ext cx="13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am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2062"/>
          <p:cNvSpPr/>
          <p:nvPr/>
        </p:nvSpPr>
        <p:spPr>
          <a:xfrm>
            <a:off x="797040" y="5462640"/>
            <a:ext cx="3019320" cy="28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2063"/>
          <p:cNvSpPr/>
          <p:nvPr/>
        </p:nvSpPr>
        <p:spPr>
          <a:xfrm>
            <a:off x="625320" y="3643200"/>
            <a:ext cx="412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2064"/>
          <p:cNvSpPr/>
          <p:nvPr/>
        </p:nvSpPr>
        <p:spPr>
          <a:xfrm>
            <a:off x="631800" y="3290760"/>
            <a:ext cx="339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Line 2"/>
          <p:cNvSpPr/>
          <p:nvPr/>
        </p:nvSpPr>
        <p:spPr>
          <a:xfrm>
            <a:off x="0" y="699444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6629400" y="68994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0" y="152280"/>
            <a:ext cx="661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Schneide den gegebenen Würfel mit der durch P, Q und R bestimmten Ebene </a:t>
            </a:r>
            <a:r>
              <a:rPr b="0" lang="de-DE" sz="13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mittels eines Seitenrisses, der dem Aufriss zugeordnet ist und die Ebene </a:t>
            </a:r>
            <a:r>
              <a:rPr b="0" lang="de-DE" sz="13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im 3. Riss projizierend zeig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Group 23"/>
          <p:cNvGrpSpPr/>
          <p:nvPr/>
        </p:nvGrpSpPr>
        <p:grpSpPr>
          <a:xfrm>
            <a:off x="2273400" y="6710400"/>
            <a:ext cx="428040" cy="3233880"/>
            <a:chOff x="2273400" y="6710400"/>
            <a:chExt cx="428040" cy="3233880"/>
          </a:xfrm>
        </p:grpSpPr>
        <p:sp>
          <p:nvSpPr>
            <p:cNvPr id="330" name="Line 6"/>
            <p:cNvSpPr/>
            <p:nvPr/>
          </p:nvSpPr>
          <p:spPr>
            <a:xfrm>
              <a:off x="2587320" y="6985080"/>
              <a:ext cx="0" cy="2762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7"/>
            <p:cNvSpPr/>
            <p:nvPr/>
          </p:nvSpPr>
          <p:spPr>
            <a:xfrm>
              <a:off x="2298600" y="6710400"/>
              <a:ext cx="4028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8"/>
            <p:cNvSpPr/>
            <p:nvPr/>
          </p:nvSpPr>
          <p:spPr>
            <a:xfrm>
              <a:off x="2273400" y="9561600"/>
              <a:ext cx="4028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22"/>
          <p:cNvGrpSpPr/>
          <p:nvPr/>
        </p:nvGrpSpPr>
        <p:grpSpPr>
          <a:xfrm>
            <a:off x="4983120" y="4130640"/>
            <a:ext cx="399960" cy="4222440"/>
            <a:chOff x="4983120" y="4130640"/>
            <a:chExt cx="399960" cy="4222440"/>
          </a:xfrm>
        </p:grpSpPr>
        <p:sp>
          <p:nvSpPr>
            <p:cNvPr id="334" name="Rectangle 10"/>
            <p:cNvSpPr/>
            <p:nvPr/>
          </p:nvSpPr>
          <p:spPr>
            <a:xfrm>
              <a:off x="5030640" y="7814880"/>
              <a:ext cx="32364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Q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11"/>
            <p:cNvSpPr/>
            <p:nvPr/>
          </p:nvSpPr>
          <p:spPr>
            <a:xfrm>
              <a:off x="5059080" y="4130640"/>
              <a:ext cx="3240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Q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"/>
            <p:cNvSpPr/>
            <p:nvPr/>
          </p:nvSpPr>
          <p:spPr>
            <a:xfrm>
              <a:off x="4983120" y="4392360"/>
              <a:ext cx="0" cy="3801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Group 14"/>
          <p:cNvGrpSpPr/>
          <p:nvPr/>
        </p:nvGrpSpPr>
        <p:grpSpPr>
          <a:xfrm>
            <a:off x="5983200" y="5610240"/>
            <a:ext cx="311400" cy="3095640"/>
            <a:chOff x="5983200" y="5610240"/>
            <a:chExt cx="311400" cy="3095640"/>
          </a:xfrm>
        </p:grpSpPr>
        <p:sp>
          <p:nvSpPr>
            <p:cNvPr id="338" name="Line 15"/>
            <p:cNvSpPr/>
            <p:nvPr/>
          </p:nvSpPr>
          <p:spPr>
            <a:xfrm>
              <a:off x="6294600" y="5792760"/>
              <a:ext cx="0" cy="2719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16"/>
            <p:cNvSpPr/>
            <p:nvPr/>
          </p:nvSpPr>
          <p:spPr>
            <a:xfrm>
              <a:off x="5983200" y="5610240"/>
              <a:ext cx="31140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17"/>
            <p:cNvSpPr/>
            <p:nvPr/>
          </p:nvSpPr>
          <p:spPr>
            <a:xfrm>
              <a:off x="5983200" y="8329680"/>
              <a:ext cx="31140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600000" y="-360"/>
            <a:ext cx="3257640" cy="2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Titel: Würfel mit Ebene schneiden, Seitenri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9"/>
          <p:cNvSpPr/>
          <p:nvPr/>
        </p:nvSpPr>
        <p:spPr>
          <a:xfrm>
            <a:off x="0" y="533520"/>
            <a:ext cx="3114720" cy="30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Was ist für die Lage der 23-Achse (Schnittgerade von </a:t>
            </a:r>
            <a:r>
              <a:rPr b="0" i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de-DE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 mit </a:t>
            </a:r>
            <a:r>
              <a:rPr b="0" i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de-DE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) zu beacht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20"/>
          <p:cNvSpPr/>
          <p:nvPr/>
        </p:nvSpPr>
        <p:spPr>
          <a:xfrm>
            <a:off x="3684600" y="6996240"/>
            <a:ext cx="2610000" cy="26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21"/>
          <p:cNvSpPr/>
          <p:nvPr/>
        </p:nvSpPr>
        <p:spPr>
          <a:xfrm>
            <a:off x="3684600" y="4387680"/>
            <a:ext cx="2610000" cy="261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Line 2050"/>
          <p:cNvSpPr/>
          <p:nvPr/>
        </p:nvSpPr>
        <p:spPr>
          <a:xfrm>
            <a:off x="0" y="495288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2051"/>
          <p:cNvSpPr/>
          <p:nvPr/>
        </p:nvSpPr>
        <p:spPr>
          <a:xfrm>
            <a:off x="6629400" y="483876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2052"/>
          <p:cNvSpPr/>
          <p:nvPr/>
        </p:nvSpPr>
        <p:spPr>
          <a:xfrm>
            <a:off x="0" y="152280"/>
            <a:ext cx="50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3200" indent="-6732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gabe: Der Punkt P rotiert um die Gerade a. Stelle die Bahn des Punktes d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Group 2057"/>
          <p:cNvGrpSpPr/>
          <p:nvPr/>
        </p:nvGrpSpPr>
        <p:grpSpPr>
          <a:xfrm>
            <a:off x="2717640" y="3352680"/>
            <a:ext cx="438120" cy="5391360"/>
            <a:chOff x="2717640" y="3352680"/>
            <a:chExt cx="438120" cy="5391360"/>
          </a:xfrm>
        </p:grpSpPr>
        <p:sp>
          <p:nvSpPr>
            <p:cNvPr id="349" name="Rectangle 2058"/>
            <p:cNvSpPr/>
            <p:nvPr/>
          </p:nvSpPr>
          <p:spPr>
            <a:xfrm>
              <a:off x="2831760" y="8077320"/>
              <a:ext cx="32400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059"/>
            <p:cNvSpPr/>
            <p:nvPr/>
          </p:nvSpPr>
          <p:spPr>
            <a:xfrm>
              <a:off x="2793960" y="3352680"/>
              <a:ext cx="3236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2060"/>
            <p:cNvSpPr/>
            <p:nvPr/>
          </p:nvSpPr>
          <p:spPr>
            <a:xfrm>
              <a:off x="2717640" y="3676680"/>
              <a:ext cx="0" cy="4705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38240" y="-360"/>
            <a:ext cx="2219400" cy="2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Titel: Punkt rotiert um Gera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2063"/>
          <p:cNvSpPr/>
          <p:nvPr/>
        </p:nvSpPr>
        <p:spPr>
          <a:xfrm>
            <a:off x="1854360" y="1549440"/>
            <a:ext cx="4140000" cy="232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2064"/>
          <p:cNvSpPr/>
          <p:nvPr/>
        </p:nvSpPr>
        <p:spPr>
          <a:xfrm>
            <a:off x="901800" y="5359320"/>
            <a:ext cx="4991040" cy="368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2066"/>
          <p:cNvSpPr/>
          <p:nvPr/>
        </p:nvSpPr>
        <p:spPr>
          <a:xfrm>
            <a:off x="5791320" y="8572680"/>
            <a:ext cx="3236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067"/>
          <p:cNvSpPr/>
          <p:nvPr/>
        </p:nvSpPr>
        <p:spPr>
          <a:xfrm>
            <a:off x="5867280" y="3378240"/>
            <a:ext cx="3240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069"/>
          <p:cNvSpPr/>
          <p:nvPr/>
        </p:nvSpPr>
        <p:spPr>
          <a:xfrm>
            <a:off x="0" y="482760"/>
            <a:ext cx="507996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3200" indent="-6732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onstruktionsga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73200" indent="-6732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73200" indent="-6732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73200" indent="-6732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73200" indent="-6732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73200" indent="-6732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Line 2"/>
          <p:cNvSpPr/>
          <p:nvPr/>
        </p:nvSpPr>
        <p:spPr>
          <a:xfrm>
            <a:off x="0" y="495288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6629400" y="483876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0" y="152280"/>
            <a:ext cx="541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N ist die Achse eines Drehzylinders mit dem Radius 4cm. Stelle den Zylinder d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Group 5"/>
          <p:cNvGrpSpPr/>
          <p:nvPr/>
        </p:nvGrpSpPr>
        <p:grpSpPr>
          <a:xfrm>
            <a:off x="2197080" y="1339920"/>
            <a:ext cx="323640" cy="5816160"/>
            <a:chOff x="2197080" y="1339920"/>
            <a:chExt cx="323640" cy="5816160"/>
          </a:xfrm>
        </p:grpSpPr>
        <p:sp>
          <p:nvSpPr>
            <p:cNvPr id="362" name="Line 6"/>
            <p:cNvSpPr/>
            <p:nvPr/>
          </p:nvSpPr>
          <p:spPr>
            <a:xfrm>
              <a:off x="2520720" y="1683360"/>
              <a:ext cx="0" cy="5109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7"/>
            <p:cNvSpPr/>
            <p:nvPr/>
          </p:nvSpPr>
          <p:spPr>
            <a:xfrm>
              <a:off x="2197080" y="1339920"/>
              <a:ext cx="32364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N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8"/>
            <p:cNvSpPr/>
            <p:nvPr/>
          </p:nvSpPr>
          <p:spPr>
            <a:xfrm>
              <a:off x="2197080" y="6449400"/>
              <a:ext cx="32364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N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Group 9"/>
          <p:cNvGrpSpPr/>
          <p:nvPr/>
        </p:nvGrpSpPr>
        <p:grpSpPr>
          <a:xfrm>
            <a:off x="4610160" y="3009960"/>
            <a:ext cx="438120" cy="5390640"/>
            <a:chOff x="4610160" y="3009960"/>
            <a:chExt cx="438120" cy="5390640"/>
          </a:xfrm>
        </p:grpSpPr>
        <p:sp>
          <p:nvSpPr>
            <p:cNvPr id="366" name="Rectangle 10"/>
            <p:cNvSpPr/>
            <p:nvPr/>
          </p:nvSpPr>
          <p:spPr>
            <a:xfrm>
              <a:off x="4724280" y="7734240"/>
              <a:ext cx="324000" cy="6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11"/>
            <p:cNvSpPr/>
            <p:nvPr/>
          </p:nvSpPr>
          <p:spPr>
            <a:xfrm>
              <a:off x="4686480" y="3009960"/>
              <a:ext cx="323640" cy="6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2"/>
            <p:cNvSpPr/>
            <p:nvPr/>
          </p:nvSpPr>
          <p:spPr>
            <a:xfrm>
              <a:off x="4610160" y="3333600"/>
              <a:ext cx="0" cy="4704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38240" y="-360"/>
            <a:ext cx="2219400" cy="2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Titel: Drehzyli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>
            <a:off x="0" y="495288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6629400" y="483876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0" y="152280"/>
            <a:ext cx="661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Von einem schiefen quadratischen Prisma ABCDEFGH kennt man die Eckpunkte A und B des in einer zweitprojizierenden Ebene liegenden Basisquadrates. Die Seitenkanten-länge beträgt 7cm. I ist ein Punkt der Kante AE. Konstruiere das Prisma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5"/>
          <p:cNvGrpSpPr/>
          <p:nvPr/>
        </p:nvGrpSpPr>
        <p:grpSpPr>
          <a:xfrm>
            <a:off x="4459320" y="2579760"/>
            <a:ext cx="323640" cy="3336480"/>
            <a:chOff x="4459320" y="2579760"/>
            <a:chExt cx="323640" cy="3336480"/>
          </a:xfrm>
        </p:grpSpPr>
        <p:sp>
          <p:nvSpPr>
            <p:cNvPr id="59" name="Line 6"/>
            <p:cNvSpPr/>
            <p:nvPr/>
          </p:nvSpPr>
          <p:spPr>
            <a:xfrm>
              <a:off x="4782960" y="2776680"/>
              <a:ext cx="0" cy="2931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4459320" y="2579760"/>
              <a:ext cx="323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A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8"/>
            <p:cNvSpPr/>
            <p:nvPr/>
          </p:nvSpPr>
          <p:spPr>
            <a:xfrm>
              <a:off x="4459320" y="5510880"/>
              <a:ext cx="323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A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9"/>
          <p:cNvGrpSpPr/>
          <p:nvPr/>
        </p:nvGrpSpPr>
        <p:grpSpPr>
          <a:xfrm>
            <a:off x="5952960" y="3676680"/>
            <a:ext cx="438120" cy="3314160"/>
            <a:chOff x="5952960" y="3676680"/>
            <a:chExt cx="438120" cy="3314160"/>
          </a:xfrm>
        </p:grpSpPr>
        <p:sp>
          <p:nvSpPr>
            <p:cNvPr id="63" name="Rectangle 10"/>
            <p:cNvSpPr/>
            <p:nvPr/>
          </p:nvSpPr>
          <p:spPr>
            <a:xfrm>
              <a:off x="6067080" y="6581160"/>
              <a:ext cx="324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B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1"/>
            <p:cNvSpPr/>
            <p:nvPr/>
          </p:nvSpPr>
          <p:spPr>
            <a:xfrm>
              <a:off x="6029280" y="3676680"/>
              <a:ext cx="3236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B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>
              <a:off x="5952960" y="3875760"/>
              <a:ext cx="0" cy="2892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Text Box 13"/>
          <p:cNvSpPr/>
          <p:nvPr/>
        </p:nvSpPr>
        <p:spPr>
          <a:xfrm>
            <a:off x="330120" y="9447120"/>
            <a:ext cx="571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m.: Konstruiere zunächst das Quadrat ABCD durch Nulldrehen der Eb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1397160" y="3697200"/>
            <a:ext cx="323640" cy="4062240"/>
            <a:chOff x="1397160" y="3697200"/>
            <a:chExt cx="323640" cy="4062240"/>
          </a:xfrm>
        </p:grpSpPr>
        <p:sp>
          <p:nvSpPr>
            <p:cNvPr id="68" name="Line 15"/>
            <p:cNvSpPr/>
            <p:nvPr/>
          </p:nvSpPr>
          <p:spPr>
            <a:xfrm>
              <a:off x="1720800" y="3936960"/>
              <a:ext cx="0" cy="3568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6"/>
            <p:cNvSpPr/>
            <p:nvPr/>
          </p:nvSpPr>
          <p:spPr>
            <a:xfrm>
              <a:off x="1397160" y="3697200"/>
              <a:ext cx="32364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I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7"/>
            <p:cNvSpPr/>
            <p:nvPr/>
          </p:nvSpPr>
          <p:spPr>
            <a:xfrm>
              <a:off x="1397160" y="7265880"/>
              <a:ext cx="32364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I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38240" y="-360"/>
            <a:ext cx="2219400" cy="2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Titel: Schiefes quadratisches Pris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Line 1026"/>
          <p:cNvSpPr/>
          <p:nvPr/>
        </p:nvSpPr>
        <p:spPr>
          <a:xfrm>
            <a:off x="0" y="51436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0" y="152280"/>
            <a:ext cx="50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3200" indent="-6732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gabe: Von einem Drehkegel kennt man S, M und r. Skizziere den Kegel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1029"/>
          <p:cNvGrpSpPr/>
          <p:nvPr/>
        </p:nvGrpSpPr>
        <p:grpSpPr>
          <a:xfrm>
            <a:off x="787320" y="444600"/>
            <a:ext cx="438120" cy="3411000"/>
            <a:chOff x="787320" y="444600"/>
            <a:chExt cx="438120" cy="3411000"/>
          </a:xfrm>
        </p:grpSpPr>
        <p:sp>
          <p:nvSpPr>
            <p:cNvPr id="373" name="Rectangle 1030"/>
            <p:cNvSpPr/>
            <p:nvPr/>
          </p:nvSpPr>
          <p:spPr>
            <a:xfrm>
              <a:off x="901440" y="3434040"/>
              <a:ext cx="32400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S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1031"/>
            <p:cNvSpPr/>
            <p:nvPr/>
          </p:nvSpPr>
          <p:spPr>
            <a:xfrm>
              <a:off x="863640" y="444600"/>
              <a:ext cx="3236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S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1032"/>
            <p:cNvSpPr/>
            <p:nvPr/>
          </p:nvSpPr>
          <p:spPr>
            <a:xfrm>
              <a:off x="787320" y="649440"/>
              <a:ext cx="0" cy="2977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38240" y="-360"/>
            <a:ext cx="2219400" cy="2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Titel: Drehkegel freihändi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039"/>
          <p:cNvSpPr/>
          <p:nvPr/>
        </p:nvSpPr>
        <p:spPr>
          <a:xfrm flipV="1">
            <a:off x="3429000" y="520200"/>
            <a:ext cx="0" cy="9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Group 1040"/>
          <p:cNvGrpSpPr/>
          <p:nvPr/>
        </p:nvGrpSpPr>
        <p:grpSpPr>
          <a:xfrm>
            <a:off x="2374920" y="1397160"/>
            <a:ext cx="438120" cy="2393640"/>
            <a:chOff x="2374920" y="1397160"/>
            <a:chExt cx="438120" cy="2393640"/>
          </a:xfrm>
        </p:grpSpPr>
        <p:sp>
          <p:nvSpPr>
            <p:cNvPr id="379" name="Rectangle 1041"/>
            <p:cNvSpPr/>
            <p:nvPr/>
          </p:nvSpPr>
          <p:spPr>
            <a:xfrm>
              <a:off x="2489040" y="3494880"/>
              <a:ext cx="3240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1042"/>
            <p:cNvSpPr/>
            <p:nvPr/>
          </p:nvSpPr>
          <p:spPr>
            <a:xfrm>
              <a:off x="2451240" y="1397160"/>
              <a:ext cx="32364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043"/>
            <p:cNvSpPr/>
            <p:nvPr/>
          </p:nvSpPr>
          <p:spPr>
            <a:xfrm>
              <a:off x="2374920" y="1540800"/>
              <a:ext cx="0" cy="2089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Line 1044"/>
          <p:cNvSpPr/>
          <p:nvPr/>
        </p:nvSpPr>
        <p:spPr>
          <a:xfrm>
            <a:off x="5181480" y="495360"/>
            <a:ext cx="13208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045"/>
          <p:cNvSpPr/>
          <p:nvPr/>
        </p:nvSpPr>
        <p:spPr>
          <a:xfrm>
            <a:off x="5638680" y="27936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1046"/>
          <p:cNvGrpSpPr/>
          <p:nvPr/>
        </p:nvGrpSpPr>
        <p:grpSpPr>
          <a:xfrm>
            <a:off x="6311880" y="1523880"/>
            <a:ext cx="438120" cy="3411720"/>
            <a:chOff x="6311880" y="1523880"/>
            <a:chExt cx="438120" cy="3411720"/>
          </a:xfrm>
        </p:grpSpPr>
        <p:sp>
          <p:nvSpPr>
            <p:cNvPr id="385" name="Rectangle 1047"/>
            <p:cNvSpPr/>
            <p:nvPr/>
          </p:nvSpPr>
          <p:spPr>
            <a:xfrm>
              <a:off x="6426000" y="4513680"/>
              <a:ext cx="32400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S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1048"/>
            <p:cNvSpPr/>
            <p:nvPr/>
          </p:nvSpPr>
          <p:spPr>
            <a:xfrm>
              <a:off x="6388200" y="1523880"/>
              <a:ext cx="32364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S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049"/>
            <p:cNvSpPr/>
            <p:nvPr/>
          </p:nvSpPr>
          <p:spPr>
            <a:xfrm>
              <a:off x="6311880" y="1728720"/>
              <a:ext cx="0" cy="2977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Group 1050"/>
          <p:cNvGrpSpPr/>
          <p:nvPr/>
        </p:nvGrpSpPr>
        <p:grpSpPr>
          <a:xfrm>
            <a:off x="4597560" y="1606680"/>
            <a:ext cx="438120" cy="1962000"/>
            <a:chOff x="4597560" y="1606680"/>
            <a:chExt cx="438120" cy="1962000"/>
          </a:xfrm>
        </p:grpSpPr>
        <p:sp>
          <p:nvSpPr>
            <p:cNvPr id="389" name="Rectangle 1051"/>
            <p:cNvSpPr/>
            <p:nvPr/>
          </p:nvSpPr>
          <p:spPr>
            <a:xfrm>
              <a:off x="4711680" y="3326040"/>
              <a:ext cx="324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1052"/>
            <p:cNvSpPr/>
            <p:nvPr/>
          </p:nvSpPr>
          <p:spPr>
            <a:xfrm>
              <a:off x="4673880" y="1606680"/>
              <a:ext cx="3236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1053"/>
            <p:cNvSpPr/>
            <p:nvPr/>
          </p:nvSpPr>
          <p:spPr>
            <a:xfrm>
              <a:off x="4597560" y="1724400"/>
              <a:ext cx="0" cy="1712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Group 1054"/>
          <p:cNvGrpSpPr/>
          <p:nvPr/>
        </p:nvGrpSpPr>
        <p:grpSpPr>
          <a:xfrm>
            <a:off x="660240" y="5626080"/>
            <a:ext cx="438120" cy="4122720"/>
            <a:chOff x="660240" y="5626080"/>
            <a:chExt cx="438120" cy="4122720"/>
          </a:xfrm>
        </p:grpSpPr>
        <p:sp>
          <p:nvSpPr>
            <p:cNvPr id="393" name="Rectangle 1055"/>
            <p:cNvSpPr/>
            <p:nvPr/>
          </p:nvSpPr>
          <p:spPr>
            <a:xfrm>
              <a:off x="774360" y="9239040"/>
              <a:ext cx="324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S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56"/>
            <p:cNvSpPr/>
            <p:nvPr/>
          </p:nvSpPr>
          <p:spPr>
            <a:xfrm>
              <a:off x="736560" y="5626080"/>
              <a:ext cx="3236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S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1057"/>
            <p:cNvSpPr/>
            <p:nvPr/>
          </p:nvSpPr>
          <p:spPr>
            <a:xfrm>
              <a:off x="660240" y="5873760"/>
              <a:ext cx="0" cy="3597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Group 1058"/>
          <p:cNvGrpSpPr/>
          <p:nvPr/>
        </p:nvGrpSpPr>
        <p:grpSpPr>
          <a:xfrm>
            <a:off x="2158920" y="6273720"/>
            <a:ext cx="438120" cy="2394000"/>
            <a:chOff x="2158920" y="6273720"/>
            <a:chExt cx="438120" cy="2394000"/>
          </a:xfrm>
        </p:grpSpPr>
        <p:sp>
          <p:nvSpPr>
            <p:cNvPr id="397" name="Rectangle 1059"/>
            <p:cNvSpPr/>
            <p:nvPr/>
          </p:nvSpPr>
          <p:spPr>
            <a:xfrm>
              <a:off x="2273040" y="8371800"/>
              <a:ext cx="3240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060"/>
            <p:cNvSpPr/>
            <p:nvPr/>
          </p:nvSpPr>
          <p:spPr>
            <a:xfrm>
              <a:off x="2235240" y="6273720"/>
              <a:ext cx="32364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1061"/>
            <p:cNvSpPr/>
            <p:nvPr/>
          </p:nvSpPr>
          <p:spPr>
            <a:xfrm>
              <a:off x="2158920" y="6417360"/>
              <a:ext cx="0" cy="2089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Group 1062"/>
          <p:cNvGrpSpPr/>
          <p:nvPr/>
        </p:nvGrpSpPr>
        <p:grpSpPr>
          <a:xfrm>
            <a:off x="3975120" y="7683480"/>
            <a:ext cx="438120" cy="2065320"/>
            <a:chOff x="3975120" y="7683480"/>
            <a:chExt cx="438120" cy="2065320"/>
          </a:xfrm>
        </p:grpSpPr>
        <p:sp>
          <p:nvSpPr>
            <p:cNvPr id="401" name="Rectangle 1063"/>
            <p:cNvSpPr/>
            <p:nvPr/>
          </p:nvSpPr>
          <p:spPr>
            <a:xfrm>
              <a:off x="4089240" y="9493560"/>
              <a:ext cx="32400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S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1064"/>
            <p:cNvSpPr/>
            <p:nvPr/>
          </p:nvSpPr>
          <p:spPr>
            <a:xfrm>
              <a:off x="4051440" y="7683480"/>
              <a:ext cx="3236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S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1065"/>
            <p:cNvSpPr/>
            <p:nvPr/>
          </p:nvSpPr>
          <p:spPr>
            <a:xfrm>
              <a:off x="3975120" y="7807320"/>
              <a:ext cx="0" cy="1802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Group 1066"/>
          <p:cNvGrpSpPr/>
          <p:nvPr/>
        </p:nvGrpSpPr>
        <p:grpSpPr>
          <a:xfrm>
            <a:off x="5448240" y="6121440"/>
            <a:ext cx="438120" cy="2394000"/>
            <a:chOff x="5448240" y="6121440"/>
            <a:chExt cx="438120" cy="2394000"/>
          </a:xfrm>
        </p:grpSpPr>
        <p:sp>
          <p:nvSpPr>
            <p:cNvPr id="405" name="Rectangle 1067"/>
            <p:cNvSpPr/>
            <p:nvPr/>
          </p:nvSpPr>
          <p:spPr>
            <a:xfrm>
              <a:off x="5562360" y="8219520"/>
              <a:ext cx="3240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1068"/>
            <p:cNvSpPr/>
            <p:nvPr/>
          </p:nvSpPr>
          <p:spPr>
            <a:xfrm>
              <a:off x="5524560" y="6121440"/>
              <a:ext cx="32364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1069"/>
            <p:cNvSpPr/>
            <p:nvPr/>
          </p:nvSpPr>
          <p:spPr>
            <a:xfrm>
              <a:off x="5448240" y="6265080"/>
              <a:ext cx="0" cy="2089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4"/>
          <p:cNvSpPr/>
          <p:nvPr/>
        </p:nvSpPr>
        <p:spPr>
          <a:xfrm>
            <a:off x="0" y="152280"/>
            <a:ext cx="541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mkreis des Dreiecks ABC (ABC in zweitprojizierender Ebe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38240" y="-360"/>
            <a:ext cx="2219400" cy="2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Titel: Drehzyli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Gruppieren 1"/>
          <p:cNvGrpSpPr/>
          <p:nvPr/>
        </p:nvGrpSpPr>
        <p:grpSpPr>
          <a:xfrm>
            <a:off x="0" y="2511360"/>
            <a:ext cx="6858000" cy="6668640"/>
            <a:chOff x="0" y="2511360"/>
            <a:chExt cx="6858000" cy="6668640"/>
          </a:xfrm>
        </p:grpSpPr>
        <p:sp>
          <p:nvSpPr>
            <p:cNvPr id="411" name="Line 2"/>
            <p:cNvSpPr/>
            <p:nvPr/>
          </p:nvSpPr>
          <p:spPr>
            <a:xfrm>
              <a:off x="0" y="573300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3"/>
            <p:cNvSpPr/>
            <p:nvPr/>
          </p:nvSpPr>
          <p:spPr>
            <a:xfrm>
              <a:off x="6629400" y="561888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" name="Group 5"/>
            <p:cNvGrpSpPr/>
            <p:nvPr/>
          </p:nvGrpSpPr>
          <p:grpSpPr>
            <a:xfrm>
              <a:off x="987120" y="2511360"/>
              <a:ext cx="513360" cy="4696560"/>
              <a:chOff x="987120" y="2511360"/>
              <a:chExt cx="513360" cy="4696560"/>
            </a:xfrm>
          </p:grpSpPr>
          <p:sp>
            <p:nvSpPr>
              <p:cNvPr id="414" name="Line 6"/>
              <p:cNvSpPr/>
              <p:nvPr/>
            </p:nvSpPr>
            <p:spPr>
              <a:xfrm>
                <a:off x="1500480" y="2511360"/>
                <a:ext cx="0" cy="39337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sm" type="oval" w="sm"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Rectangle 7"/>
              <p:cNvSpPr/>
              <p:nvPr/>
            </p:nvSpPr>
            <p:spPr>
              <a:xfrm>
                <a:off x="987120" y="2511360"/>
                <a:ext cx="51336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“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Rectangle 8"/>
              <p:cNvSpPr/>
              <p:nvPr/>
            </p:nvSpPr>
            <p:spPr>
              <a:xfrm>
                <a:off x="1112760" y="6013440"/>
                <a:ext cx="387360" cy="11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‘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Group 9"/>
            <p:cNvGrpSpPr/>
            <p:nvPr/>
          </p:nvGrpSpPr>
          <p:grpSpPr>
            <a:xfrm>
              <a:off x="4219920" y="4172400"/>
              <a:ext cx="438120" cy="3751920"/>
              <a:chOff x="4219920" y="4172400"/>
              <a:chExt cx="438120" cy="3751920"/>
            </a:xfrm>
          </p:grpSpPr>
          <p:sp>
            <p:nvSpPr>
              <p:cNvPr id="418" name="Rectangle 10"/>
              <p:cNvSpPr/>
              <p:nvPr/>
            </p:nvSpPr>
            <p:spPr>
              <a:xfrm>
                <a:off x="4334040" y="7460640"/>
                <a:ext cx="324000" cy="46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‘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Rectangle 11"/>
              <p:cNvSpPr/>
              <p:nvPr/>
            </p:nvSpPr>
            <p:spPr>
              <a:xfrm>
                <a:off x="4296240" y="4172400"/>
                <a:ext cx="323640" cy="46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“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Line 12"/>
              <p:cNvSpPr/>
              <p:nvPr/>
            </p:nvSpPr>
            <p:spPr>
              <a:xfrm>
                <a:off x="4219920" y="4397760"/>
                <a:ext cx="0" cy="32745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sm" type="oval" w="sm"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9"/>
            <p:cNvGrpSpPr/>
            <p:nvPr/>
          </p:nvGrpSpPr>
          <p:grpSpPr>
            <a:xfrm>
              <a:off x="2667240" y="6108840"/>
              <a:ext cx="370800" cy="3071160"/>
              <a:chOff x="2667240" y="6108840"/>
              <a:chExt cx="370800" cy="3071160"/>
            </a:xfrm>
          </p:grpSpPr>
          <p:sp>
            <p:nvSpPr>
              <p:cNvPr id="422" name="Rectangle 10"/>
              <p:cNvSpPr/>
              <p:nvPr/>
            </p:nvSpPr>
            <p:spPr>
              <a:xfrm>
                <a:off x="2781000" y="8646480"/>
                <a:ext cx="25704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‘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Line 12"/>
              <p:cNvSpPr/>
              <p:nvPr/>
            </p:nvSpPr>
            <p:spPr>
              <a:xfrm>
                <a:off x="2667240" y="6108840"/>
                <a:ext cx="0" cy="27133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Line 2"/>
          <p:cNvSpPr/>
          <p:nvPr/>
        </p:nvSpPr>
        <p:spPr>
          <a:xfrm>
            <a:off x="0" y="5695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6629400" y="56008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0" y="28440"/>
            <a:ext cx="661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in Körper besteht aus einem Würfel und einer "aufgesetzten" Halbkugel.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Vom Würfel kennt man die Eckpunkte A und B sowie einen weiteren Punkt I der "Basisebene". Konstruiere den Körper in Grund- und Aufris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5"/>
          <p:cNvGrpSpPr/>
          <p:nvPr/>
        </p:nvGrpSpPr>
        <p:grpSpPr>
          <a:xfrm>
            <a:off x="3125880" y="2146320"/>
            <a:ext cx="303120" cy="5447880"/>
            <a:chOff x="3125880" y="2146320"/>
            <a:chExt cx="303120" cy="5447880"/>
          </a:xfrm>
        </p:grpSpPr>
        <p:sp>
          <p:nvSpPr>
            <p:cNvPr id="428" name="Line 6"/>
            <p:cNvSpPr/>
            <p:nvPr/>
          </p:nvSpPr>
          <p:spPr>
            <a:xfrm>
              <a:off x="3429000" y="2467800"/>
              <a:ext cx="0" cy="4785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7"/>
            <p:cNvSpPr/>
            <p:nvPr/>
          </p:nvSpPr>
          <p:spPr>
            <a:xfrm>
              <a:off x="3125880" y="2146320"/>
              <a:ext cx="30312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A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8"/>
            <p:cNvSpPr/>
            <p:nvPr/>
          </p:nvSpPr>
          <p:spPr>
            <a:xfrm>
              <a:off x="3125880" y="6932160"/>
              <a:ext cx="30312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A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9"/>
          <p:cNvGrpSpPr/>
          <p:nvPr/>
        </p:nvGrpSpPr>
        <p:grpSpPr>
          <a:xfrm>
            <a:off x="4856040" y="3538440"/>
            <a:ext cx="438120" cy="4608360"/>
            <a:chOff x="4856040" y="3538440"/>
            <a:chExt cx="438120" cy="4608360"/>
          </a:xfrm>
        </p:grpSpPr>
        <p:sp>
          <p:nvSpPr>
            <p:cNvPr id="432" name="Rectangle 10"/>
            <p:cNvSpPr/>
            <p:nvPr/>
          </p:nvSpPr>
          <p:spPr>
            <a:xfrm>
              <a:off x="4970160" y="7576920"/>
              <a:ext cx="32400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B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Rectangle 11"/>
            <p:cNvSpPr/>
            <p:nvPr/>
          </p:nvSpPr>
          <p:spPr>
            <a:xfrm>
              <a:off x="4932360" y="3538440"/>
              <a:ext cx="3236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B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12"/>
            <p:cNvSpPr/>
            <p:nvPr/>
          </p:nvSpPr>
          <p:spPr>
            <a:xfrm>
              <a:off x="4856040" y="3815280"/>
              <a:ext cx="0" cy="40219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Group 13"/>
          <p:cNvGrpSpPr/>
          <p:nvPr/>
        </p:nvGrpSpPr>
        <p:grpSpPr>
          <a:xfrm>
            <a:off x="1233360" y="2789280"/>
            <a:ext cx="325080" cy="5719320"/>
            <a:chOff x="1233360" y="2789280"/>
            <a:chExt cx="325080" cy="5719320"/>
          </a:xfrm>
        </p:grpSpPr>
        <p:sp>
          <p:nvSpPr>
            <p:cNvPr id="436" name="Line 14"/>
            <p:cNvSpPr/>
            <p:nvPr/>
          </p:nvSpPr>
          <p:spPr>
            <a:xfrm>
              <a:off x="1558440" y="3126960"/>
              <a:ext cx="0" cy="5024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15"/>
            <p:cNvSpPr/>
            <p:nvPr/>
          </p:nvSpPr>
          <p:spPr>
            <a:xfrm>
              <a:off x="1233360" y="2789280"/>
              <a:ext cx="325080" cy="69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I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16"/>
            <p:cNvSpPr/>
            <p:nvPr/>
          </p:nvSpPr>
          <p:spPr>
            <a:xfrm>
              <a:off x="1233360" y="7813800"/>
              <a:ext cx="325080" cy="69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I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38240" y="-360"/>
            <a:ext cx="2219400" cy="2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Titel: Würfel &amp; Halbkug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8"/>
          <p:cNvSpPr/>
          <p:nvPr/>
        </p:nvSpPr>
        <p:spPr>
          <a:xfrm>
            <a:off x="0" y="628560"/>
            <a:ext cx="31147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Konstruktionsga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6)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Oval 19"/>
          <p:cNvSpPr/>
          <p:nvPr/>
        </p:nvSpPr>
        <p:spPr>
          <a:xfrm>
            <a:off x="5572080" y="603360"/>
            <a:ext cx="1079640" cy="10792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20"/>
          <p:cNvSpPr/>
          <p:nvPr/>
        </p:nvSpPr>
        <p:spPr>
          <a:xfrm>
            <a:off x="5572080" y="1138320"/>
            <a:ext cx="1079640" cy="1079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2"/>
          <p:cNvSpPr/>
          <p:nvPr/>
        </p:nvSpPr>
        <p:spPr>
          <a:xfrm>
            <a:off x="0" y="495288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6629400" y="483876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0" y="152280"/>
            <a:ext cx="661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ie Ebene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ist durch 3 Punkte A, B und C festgelegt. Eine Gerade g durch Grundriss und Aufriss. Ermittle den Winkel zwischen der Geraden g und der Ebene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5"/>
          <p:cNvGrpSpPr/>
          <p:nvPr/>
        </p:nvGrpSpPr>
        <p:grpSpPr>
          <a:xfrm>
            <a:off x="4459320" y="2579760"/>
            <a:ext cx="323640" cy="3336480"/>
            <a:chOff x="4459320" y="2579760"/>
            <a:chExt cx="323640" cy="3336480"/>
          </a:xfrm>
        </p:grpSpPr>
        <p:sp>
          <p:nvSpPr>
            <p:cNvPr id="76" name="Line 6"/>
            <p:cNvSpPr/>
            <p:nvPr/>
          </p:nvSpPr>
          <p:spPr>
            <a:xfrm>
              <a:off x="4782960" y="2776680"/>
              <a:ext cx="0" cy="2931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7"/>
            <p:cNvSpPr/>
            <p:nvPr/>
          </p:nvSpPr>
          <p:spPr>
            <a:xfrm>
              <a:off x="4459320" y="2579760"/>
              <a:ext cx="323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A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8"/>
            <p:cNvSpPr/>
            <p:nvPr/>
          </p:nvSpPr>
          <p:spPr>
            <a:xfrm>
              <a:off x="4459320" y="5510880"/>
              <a:ext cx="323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A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9"/>
          <p:cNvGrpSpPr/>
          <p:nvPr/>
        </p:nvGrpSpPr>
        <p:grpSpPr>
          <a:xfrm>
            <a:off x="5952960" y="3740040"/>
            <a:ext cx="438120" cy="3314520"/>
            <a:chOff x="5952960" y="3740040"/>
            <a:chExt cx="438120" cy="3314520"/>
          </a:xfrm>
        </p:grpSpPr>
        <p:sp>
          <p:nvSpPr>
            <p:cNvPr id="80" name="Rectangle 10"/>
            <p:cNvSpPr/>
            <p:nvPr/>
          </p:nvSpPr>
          <p:spPr>
            <a:xfrm>
              <a:off x="6067080" y="6644880"/>
              <a:ext cx="324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B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1"/>
            <p:cNvSpPr/>
            <p:nvPr/>
          </p:nvSpPr>
          <p:spPr>
            <a:xfrm>
              <a:off x="6029280" y="3740040"/>
              <a:ext cx="3236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B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5952960" y="3939120"/>
              <a:ext cx="0" cy="28929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Line 15"/>
          <p:cNvSpPr/>
          <p:nvPr/>
        </p:nvSpPr>
        <p:spPr>
          <a:xfrm>
            <a:off x="1720800" y="3936960"/>
            <a:ext cx="0" cy="3568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1397160" y="3697200"/>
            <a:ext cx="3236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1397160" y="7265880"/>
            <a:ext cx="3236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8240" y="-360"/>
            <a:ext cx="2219400" cy="2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Titel: Winkel Gerade - Ebe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666720" y="1736640"/>
            <a:ext cx="5838840" cy="280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731880" y="1386000"/>
            <a:ext cx="3236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1"/>
          <p:cNvSpPr/>
          <p:nvPr/>
        </p:nvSpPr>
        <p:spPr>
          <a:xfrm>
            <a:off x="468360" y="6207120"/>
            <a:ext cx="3236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2"/>
          <p:cNvSpPr/>
          <p:nvPr/>
        </p:nvSpPr>
        <p:spPr>
          <a:xfrm>
            <a:off x="511200" y="6573960"/>
            <a:ext cx="6138720" cy="20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2"/>
          <p:cNvSpPr/>
          <p:nvPr/>
        </p:nvSpPr>
        <p:spPr>
          <a:xfrm>
            <a:off x="0" y="5695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6629400" y="56008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0" y="152280"/>
            <a:ext cx="6616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ine gerade Pyramide hat ein Parallelogramm als Basisfläche. Vom Parallelogramm ABCD sind 3 Punkte A, B und C gegeben. Ermittle die Spitze S der Pyramide durch Auftragen der Höhe h=6cm vom Mittelpunkt des Parallelogramms auf einer Normalen auf die Basisebene und stelle die Pyramide unter Berücksichtigung der Sichtbarkeit dar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19"/>
          <p:cNvGrpSpPr/>
          <p:nvPr/>
        </p:nvGrpSpPr>
        <p:grpSpPr>
          <a:xfrm>
            <a:off x="2567160" y="5405400"/>
            <a:ext cx="323640" cy="3191040"/>
            <a:chOff x="2567160" y="5405400"/>
            <a:chExt cx="323640" cy="3191040"/>
          </a:xfrm>
        </p:grpSpPr>
        <p:sp>
          <p:nvSpPr>
            <p:cNvPr id="95" name="Line 6"/>
            <p:cNvSpPr/>
            <p:nvPr/>
          </p:nvSpPr>
          <p:spPr>
            <a:xfrm>
              <a:off x="2890800" y="5689440"/>
              <a:ext cx="0" cy="2713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7"/>
            <p:cNvSpPr/>
            <p:nvPr/>
          </p:nvSpPr>
          <p:spPr>
            <a:xfrm>
              <a:off x="2567160" y="5405400"/>
              <a:ext cx="32364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A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8"/>
            <p:cNvSpPr/>
            <p:nvPr/>
          </p:nvSpPr>
          <p:spPr>
            <a:xfrm>
              <a:off x="2567160" y="8221680"/>
              <a:ext cx="32364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A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20"/>
          <p:cNvGrpSpPr/>
          <p:nvPr/>
        </p:nvGrpSpPr>
        <p:grpSpPr>
          <a:xfrm>
            <a:off x="4886280" y="4629240"/>
            <a:ext cx="336600" cy="2776320"/>
            <a:chOff x="4886280" y="4629240"/>
            <a:chExt cx="336600" cy="2776320"/>
          </a:xfrm>
        </p:grpSpPr>
        <p:sp>
          <p:nvSpPr>
            <p:cNvPr id="99" name="Rectangle 10"/>
            <p:cNvSpPr/>
            <p:nvPr/>
          </p:nvSpPr>
          <p:spPr>
            <a:xfrm>
              <a:off x="4886280" y="7062840"/>
              <a:ext cx="324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B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11"/>
            <p:cNvSpPr/>
            <p:nvPr/>
          </p:nvSpPr>
          <p:spPr>
            <a:xfrm>
              <a:off x="4898880" y="4629240"/>
              <a:ext cx="324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B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2"/>
            <p:cNvSpPr/>
            <p:nvPr/>
          </p:nvSpPr>
          <p:spPr>
            <a:xfrm>
              <a:off x="4911840" y="4795920"/>
              <a:ext cx="0" cy="2423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Group 13"/>
          <p:cNvGrpSpPr/>
          <p:nvPr/>
        </p:nvGrpSpPr>
        <p:grpSpPr>
          <a:xfrm>
            <a:off x="3591000" y="4087800"/>
            <a:ext cx="342360" cy="3135240"/>
            <a:chOff x="3591000" y="4087800"/>
            <a:chExt cx="342360" cy="3135240"/>
          </a:xfrm>
        </p:grpSpPr>
        <p:sp>
          <p:nvSpPr>
            <p:cNvPr id="103" name="Line 14"/>
            <p:cNvSpPr/>
            <p:nvPr/>
          </p:nvSpPr>
          <p:spPr>
            <a:xfrm>
              <a:off x="3933360" y="4272840"/>
              <a:ext cx="0" cy="2754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5"/>
            <p:cNvSpPr/>
            <p:nvPr/>
          </p:nvSpPr>
          <p:spPr>
            <a:xfrm>
              <a:off x="3591000" y="4087800"/>
              <a:ext cx="342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C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16"/>
            <p:cNvSpPr/>
            <p:nvPr/>
          </p:nvSpPr>
          <p:spPr>
            <a:xfrm>
              <a:off x="3591000" y="6842160"/>
              <a:ext cx="342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C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38240" y="-360"/>
            <a:ext cx="2219400" cy="2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Beilage 2. 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0" y="5695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6629400" y="56008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0" y="152280"/>
            <a:ext cx="661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Von einem Würfel ABCDEFGH kennt man die Eckpunkte A und B. I ist ein Punkt der Ebene ABCD. Konstruiere den Würfel! Gib die einzelnen Schritte einer "Vorplanung" an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5"/>
          <p:cNvGrpSpPr/>
          <p:nvPr/>
        </p:nvGrpSpPr>
        <p:grpSpPr>
          <a:xfrm>
            <a:off x="4459320" y="2903400"/>
            <a:ext cx="323640" cy="3774960"/>
            <a:chOff x="4459320" y="2903400"/>
            <a:chExt cx="323640" cy="3774960"/>
          </a:xfrm>
        </p:grpSpPr>
        <p:sp>
          <p:nvSpPr>
            <p:cNvPr id="111" name="Line 6"/>
            <p:cNvSpPr/>
            <p:nvPr/>
          </p:nvSpPr>
          <p:spPr>
            <a:xfrm>
              <a:off x="4782960" y="3126240"/>
              <a:ext cx="0" cy="3316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7"/>
            <p:cNvSpPr/>
            <p:nvPr/>
          </p:nvSpPr>
          <p:spPr>
            <a:xfrm>
              <a:off x="4459320" y="2903400"/>
              <a:ext cx="3236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A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8"/>
            <p:cNvSpPr/>
            <p:nvPr/>
          </p:nvSpPr>
          <p:spPr>
            <a:xfrm>
              <a:off x="4459320" y="6219720"/>
              <a:ext cx="3236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A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9"/>
          <p:cNvGrpSpPr/>
          <p:nvPr/>
        </p:nvGrpSpPr>
        <p:grpSpPr>
          <a:xfrm>
            <a:off x="5952960" y="4438800"/>
            <a:ext cx="438120" cy="3314160"/>
            <a:chOff x="5952960" y="4438800"/>
            <a:chExt cx="438120" cy="3314160"/>
          </a:xfrm>
        </p:grpSpPr>
        <p:sp>
          <p:nvSpPr>
            <p:cNvPr id="115" name="Rectangle 10"/>
            <p:cNvSpPr/>
            <p:nvPr/>
          </p:nvSpPr>
          <p:spPr>
            <a:xfrm>
              <a:off x="6067080" y="7343280"/>
              <a:ext cx="324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B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6029280" y="4438800"/>
              <a:ext cx="3236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B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12"/>
            <p:cNvSpPr/>
            <p:nvPr/>
          </p:nvSpPr>
          <p:spPr>
            <a:xfrm>
              <a:off x="5952960" y="4637880"/>
              <a:ext cx="0" cy="2892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Text Box 13"/>
          <p:cNvSpPr/>
          <p:nvPr/>
        </p:nvSpPr>
        <p:spPr>
          <a:xfrm>
            <a:off x="330120" y="9447120"/>
            <a:ext cx="571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m.: Konstruiere zunächst das Quadrat ABCD durch Nulldrehen der Ebene AB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14"/>
          <p:cNvGrpSpPr/>
          <p:nvPr/>
        </p:nvGrpSpPr>
        <p:grpSpPr>
          <a:xfrm>
            <a:off x="2549520" y="3935520"/>
            <a:ext cx="342720" cy="4519080"/>
            <a:chOff x="2549520" y="3935520"/>
            <a:chExt cx="342720" cy="4519080"/>
          </a:xfrm>
        </p:grpSpPr>
        <p:sp>
          <p:nvSpPr>
            <p:cNvPr id="120" name="Line 15"/>
            <p:cNvSpPr/>
            <p:nvPr/>
          </p:nvSpPr>
          <p:spPr>
            <a:xfrm>
              <a:off x="2892240" y="4202280"/>
              <a:ext cx="0" cy="3970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6"/>
            <p:cNvSpPr/>
            <p:nvPr/>
          </p:nvSpPr>
          <p:spPr>
            <a:xfrm>
              <a:off x="2549520" y="3935520"/>
              <a:ext cx="342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I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7"/>
            <p:cNvSpPr/>
            <p:nvPr/>
          </p:nvSpPr>
          <p:spPr>
            <a:xfrm>
              <a:off x="2549520" y="7905600"/>
              <a:ext cx="342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I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38240" y="-360"/>
            <a:ext cx="2219400" cy="2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Titel: Würfelkonstruk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0" y="533520"/>
            <a:ext cx="3114720" cy="30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Konstruktionsga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6)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2"/>
          <p:cNvSpPr/>
          <p:nvPr/>
        </p:nvSpPr>
        <p:spPr>
          <a:xfrm>
            <a:off x="0" y="5695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629400" y="56008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0" y="152280"/>
            <a:ext cx="661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Von einem regelmäßigen Tetraeder kennt man zwei Eckpunkte A und B. I ist ein Punkt der Ebene ABC. Konstruiere den Tetraeder in Grund- und Aufris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5"/>
          <p:cNvGrpSpPr/>
          <p:nvPr/>
        </p:nvGrpSpPr>
        <p:grpSpPr>
          <a:xfrm>
            <a:off x="3125880" y="3043080"/>
            <a:ext cx="323640" cy="3774960"/>
            <a:chOff x="3125880" y="3043080"/>
            <a:chExt cx="323640" cy="3774960"/>
          </a:xfrm>
        </p:grpSpPr>
        <p:sp>
          <p:nvSpPr>
            <p:cNvPr id="129" name="Line 6"/>
            <p:cNvSpPr/>
            <p:nvPr/>
          </p:nvSpPr>
          <p:spPr>
            <a:xfrm>
              <a:off x="3449520" y="3265920"/>
              <a:ext cx="0" cy="3316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7"/>
            <p:cNvSpPr/>
            <p:nvPr/>
          </p:nvSpPr>
          <p:spPr>
            <a:xfrm>
              <a:off x="3125880" y="3043080"/>
              <a:ext cx="3236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A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8"/>
            <p:cNvSpPr/>
            <p:nvPr/>
          </p:nvSpPr>
          <p:spPr>
            <a:xfrm>
              <a:off x="3125880" y="6359400"/>
              <a:ext cx="3236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A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9"/>
          <p:cNvGrpSpPr/>
          <p:nvPr/>
        </p:nvGrpSpPr>
        <p:grpSpPr>
          <a:xfrm>
            <a:off x="5114880" y="4591080"/>
            <a:ext cx="438120" cy="3314160"/>
            <a:chOff x="5114880" y="4591080"/>
            <a:chExt cx="438120" cy="3314160"/>
          </a:xfrm>
        </p:grpSpPr>
        <p:sp>
          <p:nvSpPr>
            <p:cNvPr id="133" name="Rectangle 10"/>
            <p:cNvSpPr/>
            <p:nvPr/>
          </p:nvSpPr>
          <p:spPr>
            <a:xfrm>
              <a:off x="5229000" y="7495560"/>
              <a:ext cx="324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B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1"/>
            <p:cNvSpPr/>
            <p:nvPr/>
          </p:nvSpPr>
          <p:spPr>
            <a:xfrm>
              <a:off x="5191200" y="4591080"/>
              <a:ext cx="3236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B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5114880" y="4790160"/>
              <a:ext cx="0" cy="2892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14"/>
          <p:cNvGrpSpPr/>
          <p:nvPr/>
        </p:nvGrpSpPr>
        <p:grpSpPr>
          <a:xfrm>
            <a:off x="1216080" y="4075200"/>
            <a:ext cx="342360" cy="4519080"/>
            <a:chOff x="1216080" y="4075200"/>
            <a:chExt cx="342360" cy="4519080"/>
          </a:xfrm>
        </p:grpSpPr>
        <p:sp>
          <p:nvSpPr>
            <p:cNvPr id="137" name="Line 15"/>
            <p:cNvSpPr/>
            <p:nvPr/>
          </p:nvSpPr>
          <p:spPr>
            <a:xfrm>
              <a:off x="1558440" y="4341960"/>
              <a:ext cx="0" cy="3970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6"/>
            <p:cNvSpPr/>
            <p:nvPr/>
          </p:nvSpPr>
          <p:spPr>
            <a:xfrm>
              <a:off x="1216080" y="4075200"/>
              <a:ext cx="342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I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7"/>
            <p:cNvSpPr/>
            <p:nvPr/>
          </p:nvSpPr>
          <p:spPr>
            <a:xfrm>
              <a:off x="1216080" y="8045280"/>
              <a:ext cx="342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I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38240" y="-360"/>
            <a:ext cx="2219400" cy="2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Titel: Tetraederkonstruk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0" y="533520"/>
            <a:ext cx="3114720" cy="30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Konstruktionsga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6)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2"/>
          <p:cNvSpPr/>
          <p:nvPr/>
        </p:nvSpPr>
        <p:spPr>
          <a:xfrm>
            <a:off x="0" y="495288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629400" y="483876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0" y="152280"/>
            <a:ext cx="685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Von einem 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schiefen Prisma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mit einem 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regelmäßigen Sechsec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ABCDEF als Basis kennt man die Eckpunkte A und B und einen weiteren Punkt P der Basisebene. Die Seitenkanten-länge beträgt 6cm. I ist ein Punkt der Kante durch A. Konstruiere das Prisma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Group 5"/>
          <p:cNvGrpSpPr/>
          <p:nvPr/>
        </p:nvGrpSpPr>
        <p:grpSpPr>
          <a:xfrm>
            <a:off x="4821120" y="2751120"/>
            <a:ext cx="323640" cy="3336480"/>
            <a:chOff x="4821120" y="2751120"/>
            <a:chExt cx="323640" cy="3336480"/>
          </a:xfrm>
        </p:grpSpPr>
        <p:sp>
          <p:nvSpPr>
            <p:cNvPr id="146" name="Line 6"/>
            <p:cNvSpPr/>
            <p:nvPr/>
          </p:nvSpPr>
          <p:spPr>
            <a:xfrm>
              <a:off x="5144760" y="2948040"/>
              <a:ext cx="0" cy="2931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4821120" y="2751120"/>
              <a:ext cx="323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A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4821120" y="5682240"/>
              <a:ext cx="323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A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5952960" y="3676680"/>
            <a:ext cx="438120" cy="3314160"/>
            <a:chOff x="5952960" y="3676680"/>
            <a:chExt cx="438120" cy="3314160"/>
          </a:xfrm>
        </p:grpSpPr>
        <p:sp>
          <p:nvSpPr>
            <p:cNvPr id="150" name="Rectangle 10"/>
            <p:cNvSpPr/>
            <p:nvPr/>
          </p:nvSpPr>
          <p:spPr>
            <a:xfrm>
              <a:off x="6067080" y="6581160"/>
              <a:ext cx="324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B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11"/>
            <p:cNvSpPr/>
            <p:nvPr/>
          </p:nvSpPr>
          <p:spPr>
            <a:xfrm>
              <a:off x="6029280" y="3676680"/>
              <a:ext cx="3236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B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2"/>
            <p:cNvSpPr/>
            <p:nvPr/>
          </p:nvSpPr>
          <p:spPr>
            <a:xfrm>
              <a:off x="5952960" y="3875760"/>
              <a:ext cx="0" cy="2892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Text Box 13"/>
          <p:cNvSpPr/>
          <p:nvPr/>
        </p:nvSpPr>
        <p:spPr>
          <a:xfrm>
            <a:off x="330120" y="9447120"/>
            <a:ext cx="571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nleitung.: Drehe die Basisebene in Hauptlage um eine durch A gehende 2. Hauptgerad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14"/>
          <p:cNvGrpSpPr/>
          <p:nvPr/>
        </p:nvGrpSpPr>
        <p:grpSpPr>
          <a:xfrm>
            <a:off x="1397160" y="3697200"/>
            <a:ext cx="323640" cy="4062240"/>
            <a:chOff x="1397160" y="3697200"/>
            <a:chExt cx="323640" cy="4062240"/>
          </a:xfrm>
        </p:grpSpPr>
        <p:sp>
          <p:nvSpPr>
            <p:cNvPr id="155" name="Line 15"/>
            <p:cNvSpPr/>
            <p:nvPr/>
          </p:nvSpPr>
          <p:spPr>
            <a:xfrm>
              <a:off x="1720800" y="3936960"/>
              <a:ext cx="0" cy="3568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6"/>
            <p:cNvSpPr/>
            <p:nvPr/>
          </p:nvSpPr>
          <p:spPr>
            <a:xfrm>
              <a:off x="1397160" y="3697200"/>
              <a:ext cx="32364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I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7"/>
            <p:cNvSpPr/>
            <p:nvPr/>
          </p:nvSpPr>
          <p:spPr>
            <a:xfrm>
              <a:off x="1397160" y="7265880"/>
              <a:ext cx="32364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I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Group 18"/>
          <p:cNvGrpSpPr/>
          <p:nvPr/>
        </p:nvGrpSpPr>
        <p:grpSpPr>
          <a:xfrm>
            <a:off x="3363840" y="2408400"/>
            <a:ext cx="323640" cy="4165560"/>
            <a:chOff x="3363840" y="2408400"/>
            <a:chExt cx="323640" cy="4165560"/>
          </a:xfrm>
        </p:grpSpPr>
        <p:sp>
          <p:nvSpPr>
            <p:cNvPr id="159" name="Line 19"/>
            <p:cNvSpPr/>
            <p:nvPr/>
          </p:nvSpPr>
          <p:spPr>
            <a:xfrm>
              <a:off x="3687480" y="2654280"/>
              <a:ext cx="0" cy="3659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20"/>
            <p:cNvSpPr/>
            <p:nvPr/>
          </p:nvSpPr>
          <p:spPr>
            <a:xfrm>
              <a:off x="3363840" y="2408400"/>
              <a:ext cx="323640" cy="50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1"/>
            <p:cNvSpPr/>
            <p:nvPr/>
          </p:nvSpPr>
          <p:spPr>
            <a:xfrm>
              <a:off x="3363840" y="6067800"/>
              <a:ext cx="323640" cy="50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38240" y="-360"/>
            <a:ext cx="2219400" cy="2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Titel: Schiefes 6-seitiges Pris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Line 2"/>
          <p:cNvSpPr/>
          <p:nvPr/>
        </p:nvSpPr>
        <p:spPr>
          <a:xfrm>
            <a:off x="0" y="557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6629400" y="546084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0" y="152280"/>
            <a:ext cx="685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Von einem 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schiefen Prisma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mit einem 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ünfec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ABCDE als Basis kennt man die Eckpunkte A, B, C (D und E) sowie einen Punkt I der durch A gehenden Seitenkante. Schneide das Prisma mit der durch g und h aufgespannten Ebene und ermittle das Netz des Restkörper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5"/>
          <p:cNvGrpSpPr/>
          <p:nvPr/>
        </p:nvGrpSpPr>
        <p:grpSpPr>
          <a:xfrm>
            <a:off x="4821120" y="2751120"/>
            <a:ext cx="323640" cy="3336480"/>
            <a:chOff x="4821120" y="2751120"/>
            <a:chExt cx="323640" cy="3336480"/>
          </a:xfrm>
        </p:grpSpPr>
        <p:sp>
          <p:nvSpPr>
            <p:cNvPr id="167" name="Line 6"/>
            <p:cNvSpPr/>
            <p:nvPr/>
          </p:nvSpPr>
          <p:spPr>
            <a:xfrm>
              <a:off x="5144760" y="2948040"/>
              <a:ext cx="0" cy="2931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7"/>
            <p:cNvSpPr/>
            <p:nvPr/>
          </p:nvSpPr>
          <p:spPr>
            <a:xfrm>
              <a:off x="4821120" y="2751120"/>
              <a:ext cx="323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A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"/>
            <p:cNvSpPr/>
            <p:nvPr/>
          </p:nvSpPr>
          <p:spPr>
            <a:xfrm>
              <a:off x="4821120" y="5682240"/>
              <a:ext cx="323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A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9"/>
          <p:cNvGrpSpPr/>
          <p:nvPr/>
        </p:nvGrpSpPr>
        <p:grpSpPr>
          <a:xfrm>
            <a:off x="5952960" y="3676680"/>
            <a:ext cx="438120" cy="3314160"/>
            <a:chOff x="5952960" y="3676680"/>
            <a:chExt cx="438120" cy="3314160"/>
          </a:xfrm>
        </p:grpSpPr>
        <p:sp>
          <p:nvSpPr>
            <p:cNvPr id="171" name="Rectangle 10"/>
            <p:cNvSpPr/>
            <p:nvPr/>
          </p:nvSpPr>
          <p:spPr>
            <a:xfrm>
              <a:off x="6067080" y="6581160"/>
              <a:ext cx="324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B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1"/>
            <p:cNvSpPr/>
            <p:nvPr/>
          </p:nvSpPr>
          <p:spPr>
            <a:xfrm>
              <a:off x="6029280" y="3676680"/>
              <a:ext cx="3236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B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2"/>
            <p:cNvSpPr/>
            <p:nvPr/>
          </p:nvSpPr>
          <p:spPr>
            <a:xfrm>
              <a:off x="5952960" y="3875760"/>
              <a:ext cx="0" cy="2892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4"/>
          <p:cNvGrpSpPr/>
          <p:nvPr/>
        </p:nvGrpSpPr>
        <p:grpSpPr>
          <a:xfrm>
            <a:off x="1397160" y="3697200"/>
            <a:ext cx="323640" cy="4062240"/>
            <a:chOff x="1397160" y="3697200"/>
            <a:chExt cx="323640" cy="4062240"/>
          </a:xfrm>
        </p:grpSpPr>
        <p:sp>
          <p:nvSpPr>
            <p:cNvPr id="175" name="Line 15"/>
            <p:cNvSpPr/>
            <p:nvPr/>
          </p:nvSpPr>
          <p:spPr>
            <a:xfrm>
              <a:off x="1720800" y="3936960"/>
              <a:ext cx="0" cy="3568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6"/>
            <p:cNvSpPr/>
            <p:nvPr/>
          </p:nvSpPr>
          <p:spPr>
            <a:xfrm>
              <a:off x="1397160" y="3697200"/>
              <a:ext cx="32364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I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7"/>
            <p:cNvSpPr/>
            <p:nvPr/>
          </p:nvSpPr>
          <p:spPr>
            <a:xfrm>
              <a:off x="1397160" y="7265880"/>
              <a:ext cx="32364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I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18"/>
          <p:cNvGrpSpPr/>
          <p:nvPr/>
        </p:nvGrpSpPr>
        <p:grpSpPr>
          <a:xfrm>
            <a:off x="3363840" y="2408400"/>
            <a:ext cx="323640" cy="4165560"/>
            <a:chOff x="3363840" y="2408400"/>
            <a:chExt cx="323640" cy="4165560"/>
          </a:xfrm>
        </p:grpSpPr>
        <p:sp>
          <p:nvSpPr>
            <p:cNvPr id="179" name="Line 19"/>
            <p:cNvSpPr/>
            <p:nvPr/>
          </p:nvSpPr>
          <p:spPr>
            <a:xfrm>
              <a:off x="3687480" y="2654280"/>
              <a:ext cx="0" cy="3659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20"/>
            <p:cNvSpPr/>
            <p:nvPr/>
          </p:nvSpPr>
          <p:spPr>
            <a:xfrm>
              <a:off x="3363840" y="2408400"/>
              <a:ext cx="323640" cy="50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C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21"/>
            <p:cNvSpPr/>
            <p:nvPr/>
          </p:nvSpPr>
          <p:spPr>
            <a:xfrm>
              <a:off x="3363840" y="6067800"/>
              <a:ext cx="323640" cy="50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C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38240" y="-360"/>
            <a:ext cx="2219400" cy="2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Titel: Schiefes 6-seitiges Pris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4"/>
          <p:cNvSpPr/>
          <p:nvPr/>
        </p:nvSpPr>
        <p:spPr>
          <a:xfrm flipV="1">
            <a:off x="4132440" y="1281240"/>
            <a:ext cx="0" cy="6207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6"/>
          <p:cNvSpPr/>
          <p:nvPr/>
        </p:nvSpPr>
        <p:spPr>
          <a:xfrm>
            <a:off x="3859200" y="7216920"/>
            <a:ext cx="32400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7"/>
          <p:cNvSpPr/>
          <p:nvPr/>
        </p:nvSpPr>
        <p:spPr>
          <a:xfrm>
            <a:off x="5006880" y="3983040"/>
            <a:ext cx="0" cy="4756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8"/>
          <p:cNvSpPr/>
          <p:nvPr/>
        </p:nvSpPr>
        <p:spPr>
          <a:xfrm>
            <a:off x="4730760" y="3822840"/>
            <a:ext cx="32400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9"/>
          <p:cNvSpPr/>
          <p:nvPr/>
        </p:nvSpPr>
        <p:spPr>
          <a:xfrm>
            <a:off x="312840" y="6127920"/>
            <a:ext cx="6218280" cy="25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0"/>
          <p:cNvSpPr/>
          <p:nvPr/>
        </p:nvSpPr>
        <p:spPr>
          <a:xfrm>
            <a:off x="396720" y="7310520"/>
            <a:ext cx="32400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404640" y="7313760"/>
            <a:ext cx="5813640" cy="240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2"/>
          <p:cNvSpPr/>
          <p:nvPr/>
        </p:nvSpPr>
        <p:spPr>
          <a:xfrm>
            <a:off x="344520" y="6119640"/>
            <a:ext cx="3236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33"/>
          <p:cNvSpPr/>
          <p:nvPr/>
        </p:nvSpPr>
        <p:spPr>
          <a:xfrm flipV="1">
            <a:off x="925560" y="1554120"/>
            <a:ext cx="5122800" cy="378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4"/>
          <p:cNvSpPr/>
          <p:nvPr/>
        </p:nvSpPr>
        <p:spPr>
          <a:xfrm>
            <a:off x="844560" y="4894200"/>
            <a:ext cx="3240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35"/>
          <p:cNvSpPr/>
          <p:nvPr/>
        </p:nvSpPr>
        <p:spPr>
          <a:xfrm flipV="1">
            <a:off x="260280" y="1136160"/>
            <a:ext cx="4203720" cy="310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6"/>
          <p:cNvSpPr/>
          <p:nvPr/>
        </p:nvSpPr>
        <p:spPr>
          <a:xfrm>
            <a:off x="179280" y="3792600"/>
            <a:ext cx="3240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Line 2"/>
          <p:cNvSpPr/>
          <p:nvPr/>
        </p:nvSpPr>
        <p:spPr>
          <a:xfrm>
            <a:off x="0" y="495288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629400" y="483876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0" y="152280"/>
            <a:ext cx="491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3200" indent="-6732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gabe 1: Stelle den Kegel mit der Spitze S, dem Basiskreismittelpunkt M und dem Radius r=5cm in Grund- und Aufriss dar. Konstruiere dabei auch Umrisspunkte und achte auf die Sichtbarke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990720" y="1542960"/>
            <a:ext cx="323640" cy="5486400"/>
            <a:chOff x="990720" y="1542960"/>
            <a:chExt cx="323640" cy="5486400"/>
          </a:xfrm>
        </p:grpSpPr>
        <p:sp>
          <p:nvSpPr>
            <p:cNvPr id="199" name="Line 6"/>
            <p:cNvSpPr/>
            <p:nvPr/>
          </p:nvSpPr>
          <p:spPr>
            <a:xfrm>
              <a:off x="1314360" y="1866960"/>
              <a:ext cx="0" cy="4819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990720" y="1542960"/>
              <a:ext cx="3236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S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8"/>
            <p:cNvSpPr/>
            <p:nvPr/>
          </p:nvSpPr>
          <p:spPr>
            <a:xfrm>
              <a:off x="990720" y="6362640"/>
              <a:ext cx="3236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S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9"/>
          <p:cNvGrpSpPr/>
          <p:nvPr/>
        </p:nvGrpSpPr>
        <p:grpSpPr>
          <a:xfrm>
            <a:off x="4610160" y="3124080"/>
            <a:ext cx="438120" cy="5391360"/>
            <a:chOff x="4610160" y="3124080"/>
            <a:chExt cx="438120" cy="5391360"/>
          </a:xfrm>
        </p:grpSpPr>
        <p:sp>
          <p:nvSpPr>
            <p:cNvPr id="203" name="Rectangle 10"/>
            <p:cNvSpPr/>
            <p:nvPr/>
          </p:nvSpPr>
          <p:spPr>
            <a:xfrm>
              <a:off x="4724280" y="7848720"/>
              <a:ext cx="32400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11"/>
            <p:cNvSpPr/>
            <p:nvPr/>
          </p:nvSpPr>
          <p:spPr>
            <a:xfrm>
              <a:off x="4686480" y="3124080"/>
              <a:ext cx="3236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12"/>
            <p:cNvSpPr/>
            <p:nvPr/>
          </p:nvSpPr>
          <p:spPr>
            <a:xfrm>
              <a:off x="4610160" y="3448080"/>
              <a:ext cx="0" cy="4705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38240" y="-360"/>
            <a:ext cx="2219400" cy="2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Titel: Drehkeg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4T19:33:31Z</dcterms:created>
  <dc:creator>Knöbl</dc:creator>
  <dc:description/>
  <dc:language>en-US</dc:language>
  <cp:lastModifiedBy>Jakob Knöbl</cp:lastModifiedBy>
  <cp:lastPrinted>2015-04-12T18:52:53Z</cp:lastPrinted>
  <dcterms:modified xsi:type="dcterms:W3CDTF">2021-04-25T07:24:50Z</dcterms:modified>
  <cp:revision>28</cp:revision>
  <dc:subject/>
  <dc:title>PowerPoint-Präsentation</dc:title>
</cp:coreProperties>
</file>