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3EC-1E57-46A7-AFE9-2C186CA0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194-BE81-4B7D-A2DC-C8E0EAE8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A51-F2DE-47D0-9E08-C8340D0E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A6AA-CB87-4B89-B262-037D1549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8EB6-BCFF-46FC-B505-98491686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473-B297-4D28-86C2-A88C04A7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1A2-5B00-4451-827B-EBF2428A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14D2-0E60-4FCD-90FE-FE7D564D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B47-3A5D-425E-95E2-B05811AF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C56C-3198-4A47-9413-94B78745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DCD4-7CDC-4701-884D-E7A55992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D06C-467B-4EE9-B880-94113DC2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A74B-B6E8-451D-865E-9455A25B3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4600" y="444600"/>
            <a:ext cx="485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nstruiere alle Schlagschatten (auf die anderen Objektteile und die Basisebene) und alle Eigenschatten des gegebenen Körpers bei durch p und p‘ festgelegter Lichtricht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88040" y="244440"/>
            <a:ext cx="256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: 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 flipV="1">
            <a:off x="1891800" y="2930400"/>
            <a:ext cx="1576440" cy="185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1829880" y="3685680"/>
            <a:ext cx="1638360" cy="100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35200" y="266688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68320" y="372276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79760" y="1568520"/>
            <a:ext cx="6007320" cy="3257640"/>
          </a:xfrm>
          <a:custGeom>
            <a:avLst/>
            <a:gdLst/>
            <a:ahLst/>
            <a:rect l="l" t="t" r="r" b="b"/>
            <a:pathLst>
              <a:path w="3784" h="2052">
                <a:moveTo>
                  <a:pt x="232" y="268"/>
                </a:moveTo>
                <a:lnTo>
                  <a:pt x="1900" y="0"/>
                </a:lnTo>
                <a:lnTo>
                  <a:pt x="3328" y="432"/>
                </a:lnTo>
                <a:lnTo>
                  <a:pt x="3092" y="1136"/>
                </a:lnTo>
                <a:lnTo>
                  <a:pt x="3784" y="1788"/>
                </a:lnTo>
                <a:lnTo>
                  <a:pt x="2112" y="2052"/>
                </a:lnTo>
                <a:lnTo>
                  <a:pt x="1428" y="1404"/>
                </a:lnTo>
                <a:lnTo>
                  <a:pt x="0" y="976"/>
                </a:lnTo>
                <a:lnTo>
                  <a:pt x="232" y="26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35400" y="1886040"/>
            <a:ext cx="3772080" cy="1593720"/>
          </a:xfrm>
          <a:custGeom>
            <a:avLst/>
            <a:gdLst/>
            <a:ahLst/>
            <a:rect l="l" t="t" r="r" b="b"/>
            <a:pathLst>
              <a:path w="2376" h="1004">
                <a:moveTo>
                  <a:pt x="168" y="192"/>
                </a:moveTo>
                <a:lnTo>
                  <a:pt x="1356" y="0"/>
                </a:lnTo>
                <a:lnTo>
                  <a:pt x="2376" y="308"/>
                </a:lnTo>
                <a:lnTo>
                  <a:pt x="2204" y="812"/>
                </a:lnTo>
                <a:lnTo>
                  <a:pt x="1024" y="1004"/>
                </a:lnTo>
                <a:lnTo>
                  <a:pt x="0" y="696"/>
                </a:lnTo>
                <a:lnTo>
                  <a:pt x="168" y="192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502160" y="2552400"/>
            <a:ext cx="1886040" cy="29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846840" y="5987520"/>
            <a:ext cx="2633760" cy="419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746680" y="5378040"/>
            <a:ext cx="1092240" cy="1035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472920" y="4698720"/>
            <a:ext cx="2273400" cy="67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473280" y="3117960"/>
            <a:ext cx="6480" cy="157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46680" y="3803760"/>
            <a:ext cx="6480" cy="157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832440" y="4826160"/>
            <a:ext cx="6480" cy="157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9480600" y="4400640"/>
            <a:ext cx="6480" cy="157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8769240" y="2253960"/>
            <a:ext cx="6480" cy="144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384960" y="1886040"/>
            <a:ext cx="3240" cy="66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498920" y="2190240"/>
            <a:ext cx="3240" cy="66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441680" y="2857680"/>
            <a:ext cx="60480" cy="18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84960" y="2552760"/>
            <a:ext cx="1400040" cy="41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07800" y="2744280"/>
            <a:ext cx="1586160" cy="187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299520" y="2742840"/>
            <a:ext cx="1530360" cy="941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3040" y="1138320"/>
            <a:ext cx="9388800" cy="532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4600" y="444600"/>
            <a:ext cx="485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nstruiere alle Schlagschatten (auf die anderen Objektteile und die Basisebene) und alle Eigenschatten des gegebenen Körpers bei durch p und p‘ festgelegter Lichtricht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88040" y="244440"/>
            <a:ext cx="256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: 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1891800" y="2930400"/>
            <a:ext cx="1576440" cy="185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1829880" y="3685680"/>
            <a:ext cx="1638360" cy="100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35200" y="266688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8320" y="372276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6330960"/>
            <a:ext cx="16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l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79760" y="1568520"/>
            <a:ext cx="6007320" cy="3257640"/>
          </a:xfrm>
          <a:custGeom>
            <a:avLst/>
            <a:gdLst/>
            <a:ahLst/>
            <a:rect l="l" t="t" r="r" b="b"/>
            <a:pathLst>
              <a:path w="3784" h="2052">
                <a:moveTo>
                  <a:pt x="232" y="268"/>
                </a:moveTo>
                <a:lnTo>
                  <a:pt x="1900" y="0"/>
                </a:lnTo>
                <a:lnTo>
                  <a:pt x="3328" y="432"/>
                </a:lnTo>
                <a:lnTo>
                  <a:pt x="3092" y="1136"/>
                </a:lnTo>
                <a:lnTo>
                  <a:pt x="3784" y="1788"/>
                </a:lnTo>
                <a:lnTo>
                  <a:pt x="2112" y="2052"/>
                </a:lnTo>
                <a:lnTo>
                  <a:pt x="1428" y="1404"/>
                </a:lnTo>
                <a:lnTo>
                  <a:pt x="0" y="976"/>
                </a:lnTo>
                <a:lnTo>
                  <a:pt x="232" y="26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35400" y="1886040"/>
            <a:ext cx="3772080" cy="1593720"/>
          </a:xfrm>
          <a:custGeom>
            <a:avLst/>
            <a:gdLst/>
            <a:ahLst/>
            <a:rect l="l" t="t" r="r" b="b"/>
            <a:pathLst>
              <a:path w="2376" h="1004">
                <a:moveTo>
                  <a:pt x="168" y="192"/>
                </a:moveTo>
                <a:lnTo>
                  <a:pt x="1356" y="0"/>
                </a:lnTo>
                <a:lnTo>
                  <a:pt x="2376" y="308"/>
                </a:lnTo>
                <a:lnTo>
                  <a:pt x="2204" y="812"/>
                </a:lnTo>
                <a:lnTo>
                  <a:pt x="1024" y="1004"/>
                </a:lnTo>
                <a:lnTo>
                  <a:pt x="0" y="696"/>
                </a:lnTo>
                <a:lnTo>
                  <a:pt x="168" y="192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02160" y="2552400"/>
            <a:ext cx="1886040" cy="29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846840" y="5987520"/>
            <a:ext cx="2633760" cy="419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5746680" y="5378040"/>
            <a:ext cx="1092240" cy="1035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472920" y="4698720"/>
            <a:ext cx="2273400" cy="67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473280" y="3117960"/>
            <a:ext cx="6480" cy="157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746680" y="3803760"/>
            <a:ext cx="6480" cy="157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832440" y="4826160"/>
            <a:ext cx="6480" cy="157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480600" y="4400640"/>
            <a:ext cx="6480" cy="157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8769240" y="2253960"/>
            <a:ext cx="6480" cy="144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384960" y="1886040"/>
            <a:ext cx="3240" cy="66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498920" y="2190240"/>
            <a:ext cx="3240" cy="66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41680" y="2857680"/>
            <a:ext cx="60480" cy="18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84960" y="2552760"/>
            <a:ext cx="1400040" cy="41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307800" y="2744280"/>
            <a:ext cx="1586160" cy="187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99520" y="2742840"/>
            <a:ext cx="1530360" cy="941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7:22:32Z</dcterms:created>
  <dc:creator> Knöbl</dc:creator>
  <dc:description/>
  <dc:language>en-US</dc:language>
  <cp:lastModifiedBy> Knöbl</cp:lastModifiedBy>
  <dcterms:modified xsi:type="dcterms:W3CDTF">2012-01-23T15:39:41Z</dcterms:modified>
  <cp:revision>6</cp:revision>
  <dc:subject/>
  <dc:title>Folie 1</dc:title>
</cp:coreProperties>
</file>