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759-041B-460F-80E2-B4F6DCC4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705-6DB9-4FB7-B444-EB91C99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390-6A4E-483A-A037-53316A7B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138-66CF-4DB4-BF08-6DEDF294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E9D-3C82-4032-9363-7638A7BF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034-BC61-47F9-B7BB-8FE7F48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908-03E7-48C1-A694-750BA322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577-6D51-4236-A6AF-7D542B8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D4C-C0A2-40C4-A50C-870D27C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940-E742-4142-99AB-3008F7A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96D-2ABD-4A95-9E01-398BF18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AFA-D3AF-4CA8-B2E3-EDBF1E8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7426-82B6-4D45-A719-2D47CAB6B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4600" y="444600"/>
            <a:ext cx="48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struiere alle Schlagschatten (auf die anderen Objektteile und die Basisebene) und alle Eigenschatten des gegebenen Körpers bei durch p und p‘ festgelegter Lichtricht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8040" y="244440"/>
            <a:ext cx="25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21200" y="1320840"/>
            <a:ext cx="1052640" cy="91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0036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70600" y="2241720"/>
            <a:ext cx="1176480" cy="103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6520" y="3186000"/>
            <a:ext cx="720720" cy="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529320" y="3211200"/>
            <a:ext cx="1517760" cy="66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59400" y="29131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9520" y="4929120"/>
            <a:ext cx="1022040" cy="1123920"/>
          </a:xfrm>
          <a:custGeom>
            <a:avLst/>
            <a:gdLst/>
            <a:ahLst/>
            <a:rect l="l" t="t" r="r" b="b"/>
            <a:pathLst>
              <a:path w="644" h="708">
                <a:moveTo>
                  <a:pt x="0" y="708"/>
                </a:moveTo>
                <a:lnTo>
                  <a:pt x="644" y="336"/>
                </a:lnTo>
                <a:lnTo>
                  <a:pt x="642" y="0"/>
                </a:lnTo>
                <a:lnTo>
                  <a:pt x="320" y="14"/>
                </a:lnTo>
                <a:lnTo>
                  <a:pt x="0" y="374"/>
                </a:lnTo>
                <a:lnTo>
                  <a:pt x="0" y="70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00520" y="3832200"/>
            <a:ext cx="1862280" cy="2048040"/>
          </a:xfrm>
          <a:custGeom>
            <a:avLst/>
            <a:gdLst/>
            <a:ahLst/>
            <a:rect l="l" t="t" r="r" b="b"/>
            <a:pathLst>
              <a:path w="644" h="708">
                <a:moveTo>
                  <a:pt x="0" y="708"/>
                </a:moveTo>
                <a:lnTo>
                  <a:pt x="644" y="336"/>
                </a:lnTo>
                <a:lnTo>
                  <a:pt x="642" y="0"/>
                </a:lnTo>
                <a:lnTo>
                  <a:pt x="320" y="14"/>
                </a:lnTo>
                <a:lnTo>
                  <a:pt x="0" y="374"/>
                </a:lnTo>
                <a:lnTo>
                  <a:pt x="0" y="70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19560" y="2627280"/>
            <a:ext cx="143856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84640" y="2665440"/>
            <a:ext cx="143820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2320" y="3706920"/>
            <a:ext cx="143820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675320"/>
            <a:ext cx="143820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37160" y="5396040"/>
            <a:ext cx="78588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40400" y="4865760"/>
            <a:ext cx="782640" cy="65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40440" y="4290840"/>
            <a:ext cx="792000" cy="66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1640" y="4264200"/>
            <a:ext cx="79524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046920" y="4265640"/>
            <a:ext cx="51120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538600" y="4289400"/>
            <a:ext cx="5079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8960" y="4861080"/>
            <a:ext cx="0" cy="52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265200" y="2664000"/>
            <a:ext cx="917640" cy="103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186080" y="2620800"/>
            <a:ext cx="927360" cy="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3701880"/>
            <a:ext cx="0" cy="9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699080" y="5394240"/>
            <a:ext cx="838080" cy="48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99080" y="4908600"/>
            <a:ext cx="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702320" y="3870000"/>
            <a:ext cx="923760" cy="10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624640" y="3830760"/>
            <a:ext cx="9316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9560" y="3835440"/>
            <a:ext cx="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24600" y="3597120"/>
            <a:ext cx="2225520" cy="1862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260520" y="3205080"/>
            <a:ext cx="2547720" cy="14670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394000" y="1319040"/>
            <a:ext cx="3419280" cy="19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41720" y="1190520"/>
            <a:ext cx="3419280" cy="19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3160" y="3184560"/>
            <a:ext cx="1508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67480" y="1189080"/>
            <a:ext cx="1508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38480" y="5046840"/>
            <a:ext cx="1508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1720" y="3187800"/>
            <a:ext cx="0" cy="18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89320" y="3311640"/>
            <a:ext cx="0" cy="18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84280" y="4667400"/>
            <a:ext cx="87336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18320" y="1335240"/>
            <a:ext cx="0" cy="18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65680" y="1187280"/>
            <a:ext cx="0" cy="1860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41720" y="3078000"/>
            <a:ext cx="3404880" cy="1960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67480" y="3060720"/>
            <a:ext cx="150840" cy="125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3440" y="2625840"/>
            <a:ext cx="9360" cy="9651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76920" y="11066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3133800"/>
            <a:ext cx="43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533600" y="990720"/>
            <a:ext cx="12972960" cy="586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4600" y="444600"/>
            <a:ext cx="48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struiere alle Schlagschatten (auf die anderen Objektteile und die Basisebene) und alle Eigenschatten des gegebenen Körpers bei durch p und p‘ festgelegter Lichtricht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8040" y="244440"/>
            <a:ext cx="25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21200" y="1320840"/>
            <a:ext cx="1052640" cy="91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180036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0600" y="2241720"/>
            <a:ext cx="1176480" cy="103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6520" y="3186000"/>
            <a:ext cx="720720" cy="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529320" y="3211200"/>
            <a:ext cx="1517760" cy="66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59400" y="29131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9520" y="4929120"/>
            <a:ext cx="1022040" cy="1123920"/>
          </a:xfrm>
          <a:custGeom>
            <a:avLst/>
            <a:gdLst/>
            <a:ahLst/>
            <a:rect l="l" t="t" r="r" b="b"/>
            <a:pathLst>
              <a:path w="644" h="708">
                <a:moveTo>
                  <a:pt x="0" y="708"/>
                </a:moveTo>
                <a:lnTo>
                  <a:pt x="644" y="336"/>
                </a:lnTo>
                <a:lnTo>
                  <a:pt x="642" y="0"/>
                </a:lnTo>
                <a:lnTo>
                  <a:pt x="320" y="14"/>
                </a:lnTo>
                <a:lnTo>
                  <a:pt x="0" y="374"/>
                </a:lnTo>
                <a:lnTo>
                  <a:pt x="0" y="70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0520" y="3832200"/>
            <a:ext cx="1862280" cy="2048040"/>
          </a:xfrm>
          <a:custGeom>
            <a:avLst/>
            <a:gdLst/>
            <a:ahLst/>
            <a:rect l="l" t="t" r="r" b="b"/>
            <a:pathLst>
              <a:path w="644" h="708">
                <a:moveTo>
                  <a:pt x="0" y="708"/>
                </a:moveTo>
                <a:lnTo>
                  <a:pt x="644" y="336"/>
                </a:lnTo>
                <a:lnTo>
                  <a:pt x="642" y="0"/>
                </a:lnTo>
                <a:lnTo>
                  <a:pt x="320" y="14"/>
                </a:lnTo>
                <a:lnTo>
                  <a:pt x="0" y="374"/>
                </a:lnTo>
                <a:lnTo>
                  <a:pt x="0" y="70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19560" y="2627280"/>
            <a:ext cx="143856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84640" y="2665440"/>
            <a:ext cx="143820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62320" y="3706920"/>
            <a:ext cx="143820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0880" y="4675320"/>
            <a:ext cx="1438200" cy="12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37160" y="5396040"/>
            <a:ext cx="78588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0400" y="4865760"/>
            <a:ext cx="782640" cy="65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0440" y="4290840"/>
            <a:ext cx="792000" cy="66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1640" y="4264200"/>
            <a:ext cx="79524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46920" y="4265640"/>
            <a:ext cx="51120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38600" y="4289400"/>
            <a:ext cx="50796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38960" y="4861080"/>
            <a:ext cx="0" cy="52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65200" y="2664000"/>
            <a:ext cx="917640" cy="103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86080" y="2620800"/>
            <a:ext cx="927360" cy="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3701880"/>
            <a:ext cx="0" cy="9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699080" y="5394240"/>
            <a:ext cx="838080" cy="48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99080" y="4908600"/>
            <a:ext cx="0" cy="9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702320" y="3870000"/>
            <a:ext cx="923760" cy="10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24640" y="3830760"/>
            <a:ext cx="9316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9560" y="3835440"/>
            <a:ext cx="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24600" y="3597120"/>
            <a:ext cx="2225520" cy="1862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60520" y="3205080"/>
            <a:ext cx="2547720" cy="14670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94000" y="1319040"/>
            <a:ext cx="3419280" cy="19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41720" y="1190520"/>
            <a:ext cx="3419280" cy="19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43160" y="3184560"/>
            <a:ext cx="1508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67480" y="1189080"/>
            <a:ext cx="1508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38480" y="5046840"/>
            <a:ext cx="1508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41720" y="3187800"/>
            <a:ext cx="0" cy="18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89320" y="3311640"/>
            <a:ext cx="0" cy="18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84280" y="4667400"/>
            <a:ext cx="87336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8320" y="1335240"/>
            <a:ext cx="0" cy="18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65680" y="1187280"/>
            <a:ext cx="0" cy="1860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1720" y="3078000"/>
            <a:ext cx="3404880" cy="1960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7480" y="3060720"/>
            <a:ext cx="150840" cy="125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13440" y="2625840"/>
            <a:ext cx="9360" cy="9651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76920" y="11066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3133800"/>
            <a:ext cx="43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22:32Z</dcterms:created>
  <dc:creator> Knöbl</dc:creator>
  <dc:description/>
  <dc:language>en-US</dc:language>
  <cp:lastModifiedBy> Knöbl</cp:lastModifiedBy>
  <dcterms:modified xsi:type="dcterms:W3CDTF">2014-05-11T19:39:33Z</dcterms:modified>
  <cp:revision>8</cp:revision>
  <dc:subject/>
  <dc:title>Folie 1</dc:title>
</cp:coreProperties>
</file>