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496-4887-4E90-8544-8DC86BFC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E19-6299-4405-AC83-B5740F84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52F-AD7D-4C7F-8254-31D591E7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78B-7CD3-4F3E-9CA9-73965604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B04-881D-451C-9576-01404B26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DE5-7A6F-4481-A447-FE9140F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9C9-75CB-4F1B-8B11-EA9A8679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E69-4174-4EDF-8D5F-5AFB2EE7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216-8E0F-4DEB-8B5D-B26ED047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405-2FBF-4806-9362-49A1A7EF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760-8334-4846-A142-1C05ACE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6E5-D354-4B62-ACA3-BBDF0A9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805C-2098-47E1-8529-90107D759E5B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322360" y="985680"/>
            <a:ext cx="6821640" cy="11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3360" y="6326280"/>
            <a:ext cx="5796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836640"/>
            <a:ext cx="7848720" cy="4464000"/>
          </a:xfrm>
          <a:prstGeom prst="rect">
            <a:avLst/>
          </a:prstGeom>
          <a:noFill/>
          <a:ln w="0">
            <a:noFill/>
          </a:ln>
          <a:effectLst>
            <a:outerShdw dist="641917" dir="377678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Schattenkonstruktion.</a:t>
            </a:r>
            <a:br>
              <a:rPr sz="6000"/>
            </a:br>
            <a:br>
              <a:rPr sz="6000"/>
            </a:b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So geht‘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0840" y="6283440"/>
            <a:ext cx="57924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33680" y="24764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326960" y="3805200"/>
            <a:ext cx="2592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235320" y="4150800"/>
            <a:ext cx="3860640" cy="111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4080" y="4508640"/>
            <a:ext cx="0" cy="175392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7280" y="419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54080" y="4519440"/>
            <a:ext cx="2052720" cy="170028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54080" y="6224760"/>
            <a:ext cx="2629080" cy="26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44880" y="6087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9360" y="280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2840" y="45356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95680" y="3130560"/>
            <a:ext cx="2052720" cy="170028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3080" y="3143160"/>
            <a:ext cx="0" cy="17542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83080" y="4852800"/>
            <a:ext cx="2066760" cy="205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41480" y="31190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024440" y="48398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47960" y="4858920"/>
            <a:ext cx="1628640" cy="13906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33200" y="5600880"/>
            <a:ext cx="1971720" cy="1218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09960" y="5400720"/>
            <a:ext cx="1629000" cy="14191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47960" y="4181040"/>
            <a:ext cx="1628640" cy="1419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552480" y="4181040"/>
            <a:ext cx="1971720" cy="1219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2640" y="5600880"/>
            <a:ext cx="26384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6451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3080" y="580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43280" y="598788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1880" y="5695920"/>
            <a:ext cx="4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91240" y="2305080"/>
            <a:ext cx="4206600" cy="212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o ist der Schattenpunkt von A in der schrägen (orangen)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azu kann man die Gerade A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mit der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chneiden.  Der Schnittpunkt 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liegt auch in der Schnittgerade s der senkrechten Ebene durch A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und der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0840" y="6283440"/>
            <a:ext cx="57924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33680" y="24764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326960" y="3805200"/>
            <a:ext cx="2592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235320" y="4150800"/>
            <a:ext cx="3860640" cy="111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4080" y="4508640"/>
            <a:ext cx="0" cy="175392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27280" y="419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9400" y="4516560"/>
            <a:ext cx="2068560" cy="1712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54080" y="6224760"/>
            <a:ext cx="2629080" cy="26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44880" y="6087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19360" y="280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22840" y="45356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95680" y="3130560"/>
            <a:ext cx="2070000" cy="171432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3080" y="3143160"/>
            <a:ext cx="0" cy="17542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83080" y="4852800"/>
            <a:ext cx="2066760" cy="205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941480" y="31190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47960" y="4858920"/>
            <a:ext cx="1628640" cy="13906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52640" y="5600880"/>
            <a:ext cx="26384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6451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0560" y="1269720"/>
            <a:ext cx="4255920" cy="267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arallel zu AB ist der (violette) Schlagschatten 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n der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 Der Punkt 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st allerdings nicht vorhanden, weil die zur yz-Ebene parallele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durch B diesen Schlagschatten begrenz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 welchem Punkt? Dieser „Endpunkt“ E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ergibt sich natürlich in der Schnittgeraden b=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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3080" y="580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2200" y="5619600"/>
            <a:ext cx="4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792600" y="464616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46640" y="5292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0400" y="4314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5920" y="50720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3520" y="4989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02120" y="499896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43280" y="598788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>
            <a:off x="3583080" y="4852800"/>
            <a:ext cx="2066760" cy="205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3680" y="24764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326960" y="3805200"/>
            <a:ext cx="2592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235320" y="4150800"/>
            <a:ext cx="3860640" cy="111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4080" y="4508640"/>
            <a:ext cx="0" cy="175392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27280" y="419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54080" y="6224760"/>
            <a:ext cx="2629080" cy="26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44880" y="6087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19360" y="280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22840" y="45356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4720" y="4597560"/>
            <a:ext cx="2127240" cy="1441440"/>
          </a:xfrm>
          <a:custGeom>
            <a:avLst/>
            <a:gdLst/>
            <a:ahLst/>
            <a:rect l="l" t="t" r="r" b="b"/>
            <a:pathLst>
              <a:path w="1340" h="908">
                <a:moveTo>
                  <a:pt x="0" y="760"/>
                </a:moveTo>
                <a:lnTo>
                  <a:pt x="600" y="908"/>
                </a:lnTo>
                <a:lnTo>
                  <a:pt x="1340" y="280"/>
                </a:lnTo>
                <a:lnTo>
                  <a:pt x="876" y="0"/>
                </a:lnTo>
                <a:lnTo>
                  <a:pt x="0" y="76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3080" y="3143160"/>
            <a:ext cx="0" cy="17542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41480" y="31190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47960" y="4858920"/>
            <a:ext cx="1628640" cy="13906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55880" y="3765600"/>
            <a:ext cx="2266920" cy="2044800"/>
          </a:xfrm>
          <a:custGeom>
            <a:avLst/>
            <a:gdLst/>
            <a:ahLst/>
            <a:rect l="l" t="t" r="r" b="b"/>
            <a:pathLst>
              <a:path w="1428" h="1288">
                <a:moveTo>
                  <a:pt x="0" y="884"/>
                </a:moveTo>
                <a:lnTo>
                  <a:pt x="1032" y="0"/>
                </a:lnTo>
                <a:lnTo>
                  <a:pt x="1428" y="528"/>
                </a:lnTo>
                <a:lnTo>
                  <a:pt x="544" y="1288"/>
                </a:lnTo>
                <a:lnTo>
                  <a:pt x="0" y="88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52640" y="5600880"/>
            <a:ext cx="26384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6451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3080" y="580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43280" y="598788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2200" y="5619600"/>
            <a:ext cx="4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92600" y="5060880"/>
            <a:ext cx="1143000" cy="976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46640" y="5292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50720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3520" y="4989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02120" y="499896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83000" y="5049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828880" y="5803560"/>
            <a:ext cx="961920" cy="243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91160" y="2405160"/>
            <a:ext cx="4267080" cy="98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it ist der Schatten in der Ebe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ledigt. Es folgt der Schatten in der etwas steileren Ebe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11480" y="534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74800" y="58039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68760" y="5767560"/>
            <a:ext cx="982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969920" y="5176800"/>
            <a:ext cx="858960" cy="627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81680" y="5556240"/>
            <a:ext cx="3881160" cy="12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„linke Grenze“ ergibt sich durch die Verbindung von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t dem Schnittpunkt der senkrechten Geraden durch A mit der Ebe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43520" y="1003320"/>
            <a:ext cx="4956120" cy="13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restliche Schattengrenze von 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weg in der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st jene Strecke der Schnittgeraden s, die von 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bis zur Geraden g reicht. Wir bezeichnen den Endpunkt mit F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49400" y="4516560"/>
            <a:ext cx="2068560" cy="1712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95680" y="3130560"/>
            <a:ext cx="2070000" cy="171432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3583080" y="4852800"/>
            <a:ext cx="2066760" cy="205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33680" y="24764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27320" y="4241880"/>
            <a:ext cx="2085840" cy="179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235320" y="4150800"/>
            <a:ext cx="3860640" cy="111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75160" y="3137040"/>
            <a:ext cx="1377720" cy="1898640"/>
          </a:xfrm>
          <a:custGeom>
            <a:avLst/>
            <a:gdLst/>
            <a:ahLst/>
            <a:rect l="l" t="t" r="r" b="b"/>
            <a:pathLst>
              <a:path w="868" h="1196">
                <a:moveTo>
                  <a:pt x="414" y="914"/>
                </a:moveTo>
                <a:lnTo>
                  <a:pt x="868" y="1196"/>
                </a:lnTo>
                <a:lnTo>
                  <a:pt x="0" y="0"/>
                </a:lnTo>
                <a:lnTo>
                  <a:pt x="14" y="390"/>
                </a:lnTo>
                <a:lnTo>
                  <a:pt x="414" y="9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54080" y="4508640"/>
            <a:ext cx="0" cy="175392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27280" y="419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54080" y="6224760"/>
            <a:ext cx="2629080" cy="26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44880" y="6087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19360" y="280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22840" y="45356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4720" y="4597560"/>
            <a:ext cx="2127240" cy="1441440"/>
          </a:xfrm>
          <a:custGeom>
            <a:avLst/>
            <a:gdLst/>
            <a:ahLst/>
            <a:rect l="l" t="t" r="r" b="b"/>
            <a:pathLst>
              <a:path w="1340" h="908">
                <a:moveTo>
                  <a:pt x="0" y="760"/>
                </a:moveTo>
                <a:lnTo>
                  <a:pt x="600" y="908"/>
                </a:lnTo>
                <a:lnTo>
                  <a:pt x="1340" y="280"/>
                </a:lnTo>
                <a:lnTo>
                  <a:pt x="876" y="0"/>
                </a:lnTo>
                <a:lnTo>
                  <a:pt x="0" y="76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3080" y="3143160"/>
            <a:ext cx="0" cy="17542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941480" y="31190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947960" y="4858920"/>
            <a:ext cx="1628640" cy="13906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55880" y="3765600"/>
            <a:ext cx="2266920" cy="2044800"/>
          </a:xfrm>
          <a:custGeom>
            <a:avLst/>
            <a:gdLst/>
            <a:ahLst/>
            <a:rect l="l" t="t" r="r" b="b"/>
            <a:pathLst>
              <a:path w="1428" h="1288">
                <a:moveTo>
                  <a:pt x="0" y="884"/>
                </a:moveTo>
                <a:lnTo>
                  <a:pt x="1032" y="0"/>
                </a:lnTo>
                <a:lnTo>
                  <a:pt x="1428" y="528"/>
                </a:lnTo>
                <a:lnTo>
                  <a:pt x="544" y="1288"/>
                </a:lnTo>
                <a:lnTo>
                  <a:pt x="0" y="88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52640" y="5600880"/>
            <a:ext cx="26384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6451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3080" y="580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598788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2200" y="5619600"/>
            <a:ext cx="4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92600" y="5060880"/>
            <a:ext cx="1143000" cy="976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46640" y="5292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920" y="50720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3520" y="4989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02120" y="499896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83000" y="5049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828880" y="5803560"/>
            <a:ext cx="961920" cy="243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534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4800" y="58039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69920" y="5176800"/>
            <a:ext cx="858960" cy="627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3640" y="1017720"/>
            <a:ext cx="3881520" cy="177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as noch fehlt ist ein Schatten in der durch B gehenden senkrechten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 Nachdem dort aber schon zwei Schattenpunkte E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und B existieren, müssen diese nur noch zu einer Strecke verbund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5440" y="3119400"/>
            <a:ext cx="1387440" cy="19162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49400" y="4516560"/>
            <a:ext cx="2068560" cy="1712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5680" y="3130560"/>
            <a:ext cx="2070000" cy="171432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2720" y="5742000"/>
            <a:ext cx="40356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Kontroll-/Konstruktionsmöglich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Parallelität BE</a:t>
            </a:r>
            <a:r>
              <a:rPr b="0" lang="de-AT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 // l“  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z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purpunkte“ in xy-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024440" y="4846320"/>
            <a:ext cx="1628640" cy="1390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06920" y="5546880"/>
            <a:ext cx="310320" cy="139680"/>
            <a:chOff x="4606920" y="5546880"/>
            <a:chExt cx="310320" cy="139680"/>
          </a:xfrm>
        </p:grpSpPr>
        <p:sp>
          <p:nvSpPr>
            <p:cNvPr id="177" name=""/>
            <p:cNvSpPr/>
            <p:nvPr/>
          </p:nvSpPr>
          <p:spPr>
            <a:xfrm>
              <a:off x="4663440" y="5584680"/>
              <a:ext cx="21564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01600" y="5546880"/>
              <a:ext cx="215640" cy="5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06920" y="5629320"/>
              <a:ext cx="2160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51200" y="5952960"/>
            <a:ext cx="310320" cy="139680"/>
            <a:chOff x="4651200" y="5952960"/>
            <a:chExt cx="310320" cy="139680"/>
          </a:xfrm>
        </p:grpSpPr>
        <p:sp>
          <p:nvSpPr>
            <p:cNvPr id="181" name=""/>
            <p:cNvSpPr/>
            <p:nvPr/>
          </p:nvSpPr>
          <p:spPr>
            <a:xfrm>
              <a:off x="4707720" y="5990760"/>
              <a:ext cx="21564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45880" y="5952960"/>
              <a:ext cx="215640" cy="5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51200" y="6035400"/>
              <a:ext cx="2160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17840" y="3787920"/>
            <a:ext cx="310320" cy="139680"/>
            <a:chOff x="2517840" y="3787920"/>
            <a:chExt cx="310320" cy="139680"/>
          </a:xfrm>
        </p:grpSpPr>
        <p:sp>
          <p:nvSpPr>
            <p:cNvPr id="185" name=""/>
            <p:cNvSpPr/>
            <p:nvPr/>
          </p:nvSpPr>
          <p:spPr>
            <a:xfrm>
              <a:off x="2574360" y="3825720"/>
              <a:ext cx="21564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12520" y="3787920"/>
              <a:ext cx="215640" cy="5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7840" y="3870360"/>
              <a:ext cx="2160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 flipV="1">
            <a:off x="4789080" y="5195880"/>
            <a:ext cx="74772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0000" y="5045040"/>
            <a:ext cx="177480" cy="24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45040" y="5221440"/>
            <a:ext cx="144360" cy="144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76120" y="1719360"/>
            <a:ext cx="172800" cy="199800"/>
            <a:chOff x="1176120" y="1719360"/>
            <a:chExt cx="172800" cy="199800"/>
          </a:xfrm>
        </p:grpSpPr>
        <p:sp>
          <p:nvSpPr>
            <p:cNvPr id="192" name=""/>
            <p:cNvSpPr/>
            <p:nvPr/>
          </p:nvSpPr>
          <p:spPr>
            <a:xfrm flipH="1">
              <a:off x="1176120" y="1719360"/>
              <a:ext cx="145800" cy="127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203120" y="1792440"/>
              <a:ext cx="1458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81120" y="4154400"/>
            <a:ext cx="172800" cy="199800"/>
            <a:chOff x="4281120" y="4154400"/>
            <a:chExt cx="172800" cy="199800"/>
          </a:xfrm>
        </p:grpSpPr>
        <p:sp>
          <p:nvSpPr>
            <p:cNvPr id="195" name=""/>
            <p:cNvSpPr/>
            <p:nvPr/>
          </p:nvSpPr>
          <p:spPr>
            <a:xfrm flipH="1">
              <a:off x="4281120" y="4154400"/>
              <a:ext cx="145800" cy="127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308120" y="4227480"/>
              <a:ext cx="1458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768760" y="5767560"/>
            <a:ext cx="982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643800" y="4662360"/>
            <a:ext cx="2562120" cy="1052640"/>
          </a:xfrm>
          <a:custGeom>
            <a:avLst/>
            <a:gdLst/>
            <a:ahLst/>
            <a:rect l="l" t="t" r="r" b="b"/>
            <a:pathLst>
              <a:path w="1614" h="663">
                <a:moveTo>
                  <a:pt x="0" y="663"/>
                </a:moveTo>
                <a:lnTo>
                  <a:pt x="1296" y="657"/>
                </a:lnTo>
                <a:lnTo>
                  <a:pt x="1614" y="378"/>
                </a:lnTo>
                <a:lnTo>
                  <a:pt x="312" y="0"/>
                </a:lnTo>
                <a:lnTo>
                  <a:pt x="312" y="399"/>
                </a:lnTo>
                <a:lnTo>
                  <a:pt x="0" y="6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583080" y="4852800"/>
            <a:ext cx="2066760" cy="205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3680" y="24764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326960" y="3805200"/>
            <a:ext cx="2592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235320" y="4150800"/>
            <a:ext cx="3860640" cy="111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75160" y="3137040"/>
            <a:ext cx="1377720" cy="1898640"/>
          </a:xfrm>
          <a:custGeom>
            <a:avLst/>
            <a:gdLst/>
            <a:ahLst/>
            <a:rect l="l" t="t" r="r" b="b"/>
            <a:pathLst>
              <a:path w="868" h="1196">
                <a:moveTo>
                  <a:pt x="414" y="914"/>
                </a:moveTo>
                <a:lnTo>
                  <a:pt x="868" y="1196"/>
                </a:lnTo>
                <a:lnTo>
                  <a:pt x="0" y="0"/>
                </a:lnTo>
                <a:lnTo>
                  <a:pt x="14" y="390"/>
                </a:lnTo>
                <a:lnTo>
                  <a:pt x="414" y="9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54080" y="4508640"/>
            <a:ext cx="0" cy="175392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27280" y="419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954080" y="6224760"/>
            <a:ext cx="2629080" cy="26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6087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19360" y="280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22840" y="45356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565440"/>
            <a:ext cx="492120" cy="2146320"/>
          </a:xfrm>
          <a:custGeom>
            <a:avLst/>
            <a:gdLst/>
            <a:ahLst/>
            <a:rect l="l" t="t" r="r" b="b"/>
            <a:pathLst>
              <a:path w="320" h="1376">
                <a:moveTo>
                  <a:pt x="4" y="276"/>
                </a:moveTo>
                <a:lnTo>
                  <a:pt x="320" y="0"/>
                </a:lnTo>
                <a:lnTo>
                  <a:pt x="320" y="1104"/>
                </a:lnTo>
                <a:lnTo>
                  <a:pt x="0" y="1376"/>
                </a:lnTo>
                <a:lnTo>
                  <a:pt x="4" y="2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4720" y="4597560"/>
            <a:ext cx="2127240" cy="1441440"/>
          </a:xfrm>
          <a:custGeom>
            <a:avLst/>
            <a:gdLst/>
            <a:ahLst/>
            <a:rect l="l" t="t" r="r" b="b"/>
            <a:pathLst>
              <a:path w="1340" h="908">
                <a:moveTo>
                  <a:pt x="0" y="760"/>
                </a:moveTo>
                <a:lnTo>
                  <a:pt x="600" y="908"/>
                </a:lnTo>
                <a:lnTo>
                  <a:pt x="1340" y="280"/>
                </a:lnTo>
                <a:lnTo>
                  <a:pt x="876" y="0"/>
                </a:lnTo>
                <a:lnTo>
                  <a:pt x="0" y="76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3080" y="3143160"/>
            <a:ext cx="0" cy="17542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41480" y="31190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47960" y="4858920"/>
            <a:ext cx="1628640" cy="13906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55880" y="3765600"/>
            <a:ext cx="2266920" cy="2044800"/>
          </a:xfrm>
          <a:custGeom>
            <a:avLst/>
            <a:gdLst/>
            <a:ahLst/>
            <a:rect l="l" t="t" r="r" b="b"/>
            <a:pathLst>
              <a:path w="1428" h="1288">
                <a:moveTo>
                  <a:pt x="0" y="884"/>
                </a:moveTo>
                <a:lnTo>
                  <a:pt x="1032" y="0"/>
                </a:lnTo>
                <a:lnTo>
                  <a:pt x="1428" y="528"/>
                </a:lnTo>
                <a:lnTo>
                  <a:pt x="544" y="1288"/>
                </a:lnTo>
                <a:lnTo>
                  <a:pt x="0" y="88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2640" y="5600880"/>
            <a:ext cx="26384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6451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3080" y="580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43280" y="598788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62200" y="5619600"/>
            <a:ext cx="4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697960" y="5239800"/>
            <a:ext cx="544320" cy="4654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46640" y="5292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95920" y="50720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3520" y="4989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02120" y="499896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83000" y="5049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828880" y="5803560"/>
            <a:ext cx="961920" cy="243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11480" y="534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74800" y="58039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68760" y="5767560"/>
            <a:ext cx="982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969920" y="5176800"/>
            <a:ext cx="858960" cy="627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03640" y="1017720"/>
            <a:ext cx="38815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Nun fehlt noch der Schatten des „hinteren Quaders“ in der xy-Ebene. Das ist aber kei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3114720"/>
            <a:ext cx="1606680" cy="2028960"/>
          </a:xfrm>
          <a:custGeom>
            <a:avLst/>
            <a:gdLst/>
            <a:ahLst/>
            <a:rect l="l" t="t" r="r" b="b"/>
            <a:pathLst>
              <a:path w="1032" h="1296">
                <a:moveTo>
                  <a:pt x="0" y="880"/>
                </a:moveTo>
                <a:lnTo>
                  <a:pt x="1028" y="0"/>
                </a:lnTo>
                <a:lnTo>
                  <a:pt x="1032" y="408"/>
                </a:lnTo>
                <a:lnTo>
                  <a:pt x="0" y="1296"/>
                </a:lnTo>
                <a:lnTo>
                  <a:pt x="0" y="8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5440" y="3119400"/>
            <a:ext cx="1387440" cy="19162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3640" y="2251080"/>
            <a:ext cx="3881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den beiden Eigenschatten ist die Konstruktion vollständ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49400" y="4516560"/>
            <a:ext cx="2068560" cy="1712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95680" y="3130560"/>
            <a:ext cx="2070000" cy="171432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3990960"/>
            <a:ext cx="2070000" cy="17146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610320" y="5708160"/>
            <a:ext cx="2100240" cy="17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21520" y="3548160"/>
            <a:ext cx="2070000" cy="171432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74080" y="4689360"/>
            <a:ext cx="2017440" cy="57960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643800" y="4662360"/>
            <a:ext cx="2562120" cy="1052640"/>
          </a:xfrm>
          <a:custGeom>
            <a:avLst/>
            <a:gdLst/>
            <a:ahLst/>
            <a:rect l="l" t="t" r="r" b="b"/>
            <a:pathLst>
              <a:path w="1614" h="663">
                <a:moveTo>
                  <a:pt x="0" y="663"/>
                </a:moveTo>
                <a:lnTo>
                  <a:pt x="1296" y="657"/>
                </a:lnTo>
                <a:lnTo>
                  <a:pt x="1614" y="378"/>
                </a:lnTo>
                <a:lnTo>
                  <a:pt x="312" y="0"/>
                </a:lnTo>
                <a:lnTo>
                  <a:pt x="312" y="399"/>
                </a:lnTo>
                <a:lnTo>
                  <a:pt x="0" y="6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83080" y="4852800"/>
            <a:ext cx="2066760" cy="205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33680" y="24764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326960" y="3805200"/>
            <a:ext cx="2592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235320" y="4150800"/>
            <a:ext cx="3860640" cy="111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3124080"/>
            <a:ext cx="1381320" cy="1924200"/>
          </a:xfrm>
          <a:custGeom>
            <a:avLst/>
            <a:gdLst/>
            <a:ahLst/>
            <a:rect l="l" t="t" r="r" b="b"/>
            <a:pathLst>
              <a:path w="870" h="1212">
                <a:moveTo>
                  <a:pt x="410" y="922"/>
                </a:moveTo>
                <a:lnTo>
                  <a:pt x="870" y="1212"/>
                </a:lnTo>
                <a:lnTo>
                  <a:pt x="0" y="0"/>
                </a:lnTo>
                <a:lnTo>
                  <a:pt x="10" y="398"/>
                </a:lnTo>
                <a:lnTo>
                  <a:pt x="410" y="922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54080" y="4508640"/>
            <a:ext cx="0" cy="175392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27280" y="419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54080" y="6224760"/>
            <a:ext cx="2629080" cy="26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44880" y="6087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19360" y="280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22840" y="45356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565440"/>
            <a:ext cx="492120" cy="2146320"/>
          </a:xfrm>
          <a:custGeom>
            <a:avLst/>
            <a:gdLst/>
            <a:ahLst/>
            <a:rect l="l" t="t" r="r" b="b"/>
            <a:pathLst>
              <a:path w="320" h="1376">
                <a:moveTo>
                  <a:pt x="4" y="276"/>
                </a:moveTo>
                <a:lnTo>
                  <a:pt x="320" y="0"/>
                </a:lnTo>
                <a:lnTo>
                  <a:pt x="320" y="1104"/>
                </a:lnTo>
                <a:lnTo>
                  <a:pt x="0" y="1376"/>
                </a:lnTo>
                <a:lnTo>
                  <a:pt x="4" y="2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4720" y="4597560"/>
            <a:ext cx="2127240" cy="1441440"/>
          </a:xfrm>
          <a:custGeom>
            <a:avLst/>
            <a:gdLst/>
            <a:ahLst/>
            <a:rect l="l" t="t" r="r" b="b"/>
            <a:pathLst>
              <a:path w="1340" h="908">
                <a:moveTo>
                  <a:pt x="0" y="760"/>
                </a:moveTo>
                <a:lnTo>
                  <a:pt x="600" y="908"/>
                </a:lnTo>
                <a:lnTo>
                  <a:pt x="1340" y="280"/>
                </a:lnTo>
                <a:lnTo>
                  <a:pt x="876" y="0"/>
                </a:lnTo>
                <a:lnTo>
                  <a:pt x="0" y="76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83080" y="3143160"/>
            <a:ext cx="0" cy="17542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941480" y="31190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947960" y="4858920"/>
            <a:ext cx="1628640" cy="139068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55880" y="3765600"/>
            <a:ext cx="2266920" cy="2044800"/>
          </a:xfrm>
          <a:custGeom>
            <a:avLst/>
            <a:gdLst/>
            <a:ahLst/>
            <a:rect l="l" t="t" r="r" b="b"/>
            <a:pathLst>
              <a:path w="1428" h="1288">
                <a:moveTo>
                  <a:pt x="0" y="884"/>
                </a:moveTo>
                <a:lnTo>
                  <a:pt x="1032" y="0"/>
                </a:lnTo>
                <a:lnTo>
                  <a:pt x="1428" y="528"/>
                </a:lnTo>
                <a:lnTo>
                  <a:pt x="544" y="1288"/>
                </a:lnTo>
                <a:lnTo>
                  <a:pt x="0" y="8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52640" y="5600880"/>
            <a:ext cx="26384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6451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3080" y="580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43280" y="598788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62200" y="5619600"/>
            <a:ext cx="4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697960" y="5239800"/>
            <a:ext cx="544320" cy="4654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46640" y="5292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95920" y="50720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13520" y="4989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02120" y="4998960"/>
            <a:ext cx="98640" cy="98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5049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828880" y="5803560"/>
            <a:ext cx="961920" cy="243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534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74800" y="58039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5767560"/>
            <a:ext cx="982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69920" y="5176800"/>
            <a:ext cx="858960" cy="627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1017720"/>
            <a:ext cx="38815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Nun fehlt noch der Schatten des „hinteren Quaders“ in der xy-Ebene. Das ist aber kei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7040" y="3133800"/>
            <a:ext cx="1608120" cy="2009880"/>
          </a:xfrm>
          <a:custGeom>
            <a:avLst/>
            <a:gdLst/>
            <a:ahLst/>
            <a:rect l="l" t="t" r="r" b="b"/>
            <a:pathLst>
              <a:path w="1013" h="1266">
                <a:moveTo>
                  <a:pt x="0" y="870"/>
                </a:moveTo>
                <a:lnTo>
                  <a:pt x="1008" y="0"/>
                </a:lnTo>
                <a:lnTo>
                  <a:pt x="1013" y="396"/>
                </a:lnTo>
                <a:lnTo>
                  <a:pt x="1" y="1266"/>
                </a:lnTo>
                <a:lnTo>
                  <a:pt x="0" y="8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440" y="3119400"/>
            <a:ext cx="1387440" cy="19162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03640" y="2251080"/>
            <a:ext cx="3881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den beiden Eigenschatten ist die Konstruktion vollständ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97760" y="5916600"/>
            <a:ext cx="7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49400" y="4516560"/>
            <a:ext cx="2068560" cy="1712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5680" y="3130560"/>
            <a:ext cx="2070000" cy="171432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3990960"/>
            <a:ext cx="2070000" cy="17146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610320" y="5708160"/>
            <a:ext cx="2100240" cy="17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21520" y="3548160"/>
            <a:ext cx="2070000" cy="171432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74080" y="4689360"/>
            <a:ext cx="2017440" cy="57960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954080" y="5162400"/>
            <a:ext cx="0" cy="1100160"/>
          </a:xfrm>
          <a:prstGeom prst="line">
            <a:avLst/>
          </a:prstGeom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27280" y="419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49400" y="4516560"/>
            <a:ext cx="2068560" cy="1712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54080" y="6224760"/>
            <a:ext cx="2629080" cy="266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44880" y="60879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19360" y="280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41480" y="3119040"/>
            <a:ext cx="1628640" cy="1390680"/>
          </a:xfrm>
          <a:prstGeom prst="line">
            <a:avLst/>
          </a:prstGeom>
          <a:ln w="38160">
            <a:solidFill>
              <a:srgbClr val="99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532240" y="917280"/>
            <a:ext cx="6370560" cy="67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Zugabe bzw. Wiederhol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Konstruiere den Schlagschatten in der (grünen)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1920" y="4367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43280" y="3772080"/>
            <a:ext cx="2286000" cy="2241360"/>
          </a:xfrm>
          <a:custGeom>
            <a:avLst/>
            <a:gdLst/>
            <a:ahLst/>
            <a:rect l="l" t="t" r="r" b="b"/>
            <a:pathLst>
              <a:path w="1440" h="1412">
                <a:moveTo>
                  <a:pt x="0" y="880"/>
                </a:moveTo>
                <a:lnTo>
                  <a:pt x="1032" y="0"/>
                </a:lnTo>
                <a:lnTo>
                  <a:pt x="1440" y="524"/>
                </a:lnTo>
                <a:lnTo>
                  <a:pt x="416" y="1412"/>
                </a:lnTo>
                <a:lnTo>
                  <a:pt x="0" y="88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43520" y="1787400"/>
            <a:ext cx="4956120" cy="181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Schattenpunkt von A in der schrägen (grünen)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st der Schnittpunkt der Geraden A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mit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 Dieser Schnittpunkt 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liegt auch in der Schnittgerade t der senkrechten Ebene durch A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und der Ebene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 Um t festzulegen benötigt man 2 Punk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7040" y="6005520"/>
            <a:ext cx="444600" cy="566640"/>
          </a:xfrm>
          <a:prstGeom prst="line">
            <a:avLst/>
          </a:prstGeom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029040" y="5310360"/>
            <a:ext cx="1463760" cy="1260360"/>
          </a:xfrm>
          <a:prstGeom prst="line">
            <a:avLst/>
          </a:prstGeom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78240" y="6203880"/>
            <a:ext cx="712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49400" y="5162400"/>
            <a:ext cx="1460520" cy="10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03360" y="526428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02120" y="3759120"/>
            <a:ext cx="4075200" cy="12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Hoppla! t und AA</a:t>
            </a:r>
            <a:r>
              <a:rPr b="0" lang="de-A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chneiden einander gar nicht „im grünen Bereich“. D.h. weiters, dass die Strecke AB in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keinen Schatten wir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90960" y="5487840"/>
            <a:ext cx="407520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Schattenbegrenzung in der grünen Ebene ergibt sich durch eine Strecke auf t und duch vorhandene Schnitgera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49400" y="5162400"/>
            <a:ext cx="889200" cy="64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790800"/>
            <a:ext cx="2229120" cy="2000520"/>
          </a:xfrm>
          <a:custGeom>
            <a:avLst/>
            <a:gdLst/>
            <a:ahLst/>
            <a:rect l="l" t="t" r="r" b="b"/>
            <a:pathLst>
              <a:path w="1404" h="1252">
                <a:moveTo>
                  <a:pt x="540" y="1252"/>
                </a:moveTo>
                <a:lnTo>
                  <a:pt x="1404" y="508"/>
                </a:lnTo>
                <a:lnTo>
                  <a:pt x="1008" y="0"/>
                </a:lnTo>
                <a:lnTo>
                  <a:pt x="0" y="856"/>
                </a:lnTo>
                <a:lnTo>
                  <a:pt x="540" y="1252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1240" y="5130720"/>
            <a:ext cx="716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50200" y="4815000"/>
            <a:ext cx="7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0:23:33Z</dcterms:created>
  <dc:creator>installer</dc:creator>
  <dc:description/>
  <dc:language>en-US</dc:language>
  <cp:lastModifiedBy> Knöbl</cp:lastModifiedBy>
  <dcterms:modified xsi:type="dcterms:W3CDTF">2009-03-15T08:18:16Z</dcterms:modified>
  <cp:revision>7</cp:revision>
  <dc:subject/>
  <dc:title>Folie 1</dc:title>
</cp:coreProperties>
</file>